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13D6-64CD-4395-9BF2-95A75B3E6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299E-097D-448A-B4A3-BD1AD3037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7387-FD24-4190-86C0-3242EE1A7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BC4A-9914-4C61-8EDD-1139B32B5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922F-3593-41F3-9887-65B719820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80B3-7518-4E3D-AAEB-B95FB7D96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364D9-C409-4A04-91C9-717C2B9488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97C6C-2CA9-4604-A2B0-43DAD14145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6F3F4-2E61-4238-BCDB-A8F44BA3D6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1C307-9A66-4CCC-84D0-0AFA57B75B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67F1A-E96F-4E3D-B338-9558EEDD29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3AB87-B9DC-4698-9BE2-2DA85B43BEA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9F97C-A267-4749-9BD5-6205DCF4158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612FC-741F-47FB-9DD5-759A8A8B58C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27450-A8F7-4AB8-ADF3-8B277C7861C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0F776-7917-441D-A4EB-9CA53B0D71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57B05-5476-4EAA-ADD9-F8FC4D3269D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06717-2D1D-4188-930C-BD68B0CB2B9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D23BE-CE62-4167-9424-7D59555637D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5A470-1651-4655-9E49-2ADECCEFA89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6ED73-0C66-4FC7-AD12-76AD7E4E766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B6A86-28EB-4834-AC3D-F3530522514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1B998-362F-4D7F-83D9-25C3DE9F7F7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9F612-C594-456F-A917-C0126C815D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118A6-D3B8-4AAE-B372-99FCA67AFA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D2F8A-A20C-491A-8068-6FBBF04E1E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D1602-1B4E-4B82-AABE-D7093A3F38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302B9-7C60-4855-95F8-C359538C29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834E2-760F-43E6-AE6B-67E3FC8DA9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33E36-C1AE-4271-969C-820E5566B3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DCA2-7C24-4E9D-AD37-7B1B78F11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8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8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2A4A-D61B-4732-8A60-FC535EBF4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74E6-2963-4A0C-94E0-83B5D8FF2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0677-4D13-4F01-AAFC-EF3AEA818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48B6-2993-4238-9F03-1E3E03AA9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EE99-AC8A-4C2E-AF30-5D3EF2AC6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A0C8-9F6E-4C4C-96C4-7B12DFD73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F532-A67A-4966-B1C1-E7E9D18B1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61BF-8E3A-4FEB-AEF2-3BDBF6B55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C7C6-EFD0-4C29-A8C5-B1CED925D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EA03-D9C9-4F3A-8260-C89C4E1F2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3BE9-68D0-464E-86F4-6BDEE9BBF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8DF1-F3F2-4B50-98D9-E41AD618D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1FE6-229F-4559-A119-AC5DB7C18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9520" y="928800"/>
            <a:ext cx="39038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tra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7E7F-B986-4B0E-B1DB-CDB0C2471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6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8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1566-0475-4E41-AFA3-36CE2307E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B100-7D9B-4681-8E32-5699213D1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3DD3-70C0-4129-AEE0-56D225A5A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2355-ECED-4D17-B238-F9ECEE972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B161-CDC2-4171-B7A3-96D1AA419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8733-6BEC-4742-BB51-457A2A165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7AD6-490A-4DC6-8CE2-6EC157E80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EC37-4C46-497E-8C09-6DE9DFB01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9284-4912-4103-BF8F-710C260CA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F260-197B-4AFC-881F-190A9381C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EA9C-9718-447E-B9A5-14E1D39C7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30EA-3421-4ABD-BA09-12EC394FD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648000" y="4616280"/>
            <a:ext cx="2020320" cy="736200"/>
            <a:chOff x="648000" y="4616280"/>
            <a:chExt cx="2020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648000" y="5045400"/>
              <a:ext cx="2020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u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6880" y="4616280"/>
              <a:ext cx="105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u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2C25-89C9-4B64-B44C-4B93DCBDE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852E-DCEE-49E8-8810-8C4DD9360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4A20-6044-4FD9-B826-A27CB1FC7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61E4-ACF8-45C9-A903-63272223F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6FF4-3A84-4E34-9653-5B618A1C3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480"/>
            <a:chOff x="3665520" y="5286240"/>
            <a:chExt cx="4780080" cy="40248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016600" y="538164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3FB7-A2FF-4702-99F6-1192507F6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423680" y="4519440"/>
              <a:ext cx="322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BBAC-5788-4FB0-B2BC-576FA5470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5C4E-0B83-4613-B202-8815615F9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4703-B961-4ACB-9FBF-11F287E06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BBC4-6F06-43A4-904A-745290697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B2E2-49F6-431B-81BA-6705DB7E0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C359-4C0F-4C99-AFB6-4994AEEB4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2E36-924E-4A94-A47E-CB4D061D9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3934-74FD-4C98-96D7-5057AE36F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0E5D-38AC-4B89-8772-B05AAD817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A47B-32F3-4EE6-966B-4F5F56B05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3C03-0031-4D4A-AB0A-1A010E0F9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2ADE-D5D9-49FF-8C71-AA13BB703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29D7-3467-450D-B5EC-B7704099D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9CC6-B58E-441A-ACCB-4A7EA4E5C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EDAE-567C-4E2F-805B-7CF1711D1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7364-6382-41F2-808E-31D8C4C1D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32BD-38DF-4494-A89F-C8BA3E112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D950-7440-469A-9666-6F6F25BB5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A34D-7612-44C1-8E4B-792CF7C41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9C57-02C6-4238-8D22-1E2DCB719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8945-9311-4669-9A27-D8F784E2A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9F2B-C0D5-484A-9754-4CDB911B5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9098-655E-4775-897F-6B66C7206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F877-EF4C-4AC0-AFD1-C0AAA4CAD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6B4C-2871-42CD-9092-E976269EC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5017-50F6-4577-8CFF-FC064BD3D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74F8-8A29-4801-91BD-4E93251A5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E177-13DC-4F6C-9588-23CD06145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2A59-FF35-4CC0-BC6A-5113E06E5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6CE5-0C18-4033-90BD-E4B149027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2152-453B-4AF0-B4FF-182D77D05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into(tlm_generic_payload&amp; other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D34D-69B0-49E1-BEF7-AD72022E8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8F97-6165-4290-B42A-A11A7138E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8A91-4317-4CF9-B92D-EBD21DD4F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E1A7-7705-467F-981D-ED835834D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1826-B228-4D5F-A889-A6070AA7F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B13E-2C55-4D3C-93EA-74FAC494E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6C25-5927-44C5-97AD-DF6F18E7B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74C3-E88A-47BA-BD33-BEDDCA286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B4D1-4B41-4ADD-86A3-641F25C66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6E8E-CAFA-44C0-883F-DA1377DCE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2C4E-F00C-4D85-AE3F-C52FB70B3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7F11-EB72-4307-BC1A-202657A58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6573-CA26-4422-9A99-F853BA4B8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9C42-3B5B-4E8A-A13E-C65C1F618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8AC6-DD64-4F06-B9CC-A26A2BB51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304920" y="1279440"/>
            <a:ext cx="8510400" cy="41576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68C2-02FA-4146-8740-F128F1EA0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320F-A794-41BB-A752-27BCAF306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9E7A-1C5D-4E7C-AEEE-5FC054D1B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392040" y="857160"/>
            <a:ext cx="652104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new tlm_generic_payload( mem_mgr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81E5-2AE6-43BC-B4FD-92194F797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8699-C686-400F-888E-3535F3832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8E8B-A1E7-4109-9987-03A0B6BBE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DC81-6214-4EDA-B5FF-6DE3099C6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E57E-2ABA-422D-88ED-A32B07FFB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D591-2A85-40F2-ADF3-7FFF40C6D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BA14-EB3C-42EC-8225-852F942AD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4499-44E5-4E60-B2A6-E2BF0F10E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8237-A6B8-4B16-A984-A5C34CD94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A75E-8FE7-47FF-84E3-83F676166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8280-D129-456C-8418-6FB7398E4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5A08-0400-435C-93E1-729E12517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2FC9-992B-4ACA-84A7-599730A9B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955A-5059-48B2-B269-FC8C482CB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AB05-5A1C-4EE4-A64C-C0D634608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D858-7F89-4B44-A70D-D549B43E6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20A5-5D82-4EAB-ABD2-CCB35B207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A071-98E8-4F29-8B88-9CF695033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CE53-C1FF-4C39-973C-49BBAC2E6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 </cp:lastModifiedBy>
  <cp:lastPrinted>2002-03-05T00:56:29Z</cp:lastPrinted>
  <dcterms:modified xsi:type="dcterms:W3CDTF">2008-06-06T08:52:13Z</dcterms:modified>
  <cp:revision>1580</cp:revision>
  <dc:subject/>
  <dc:title>TLM WG Status 07032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10917829</vt:r8>
  </property>
  <property fmtid="{D5CDD505-2E9C-101B-9397-08002B2CF9AE}" pid="3" name="_AuthorEmail">
    <vt:lpwstr>bart@CoWare.com</vt:lpwstr>
  </property>
  <property fmtid="{D5CDD505-2E9C-101B-9397-08002B2CF9AE}" pid="4" name="_AuthorEmailDisplayName">
    <vt:lpwstr>Bart Vanthournout</vt:lpwstr>
  </property>
  <property fmtid="{D5CDD505-2E9C-101B-9397-08002B2CF9AE}" pid="5" name="_EmailSubject">
    <vt:lpwstr>TLM-2.0 Presentation ja6.ppt</vt:lpwstr>
  </property>
</Properties>
</file>