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E2892-3C41-4F91-B083-0B442A74E0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2FCCD-BFB7-45C7-917B-6180F8A2A7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76B6E-A8A2-444E-B4CE-03CBF3D4D9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8DF65-6FB9-4CA2-B244-E875E954F0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D56A1-FAAB-4A98-A509-62F1D49882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32DE7-5FC6-4112-A5D9-2A95CAD247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256E7-4F89-4B83-8E1C-0953A34C3C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286BE-4EA7-47D6-AD28-6365D2711F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EDA69-4F8E-4BF5-BFC2-56B7D76E5A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5F517-51F3-4B4B-AE50-2175B89BE6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6D3F6-D0A0-49BB-B682-A971733147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9F69B-908E-4E3A-A50A-6C89146209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2838B-91CE-49D6-8993-ED2B49F353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07D36-350D-4540-84EC-9E038BE965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9AE4D-EF18-4E57-94ED-9A64DC2395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8AC4A-B046-49D3-904F-8E7DE6556C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D2ADF-8764-4AA2-98DB-A33451AB6D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6F436-B075-452B-ADFB-98E7854B0A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21:47:01Z</cp:lastPrinted>
  <dcterms:modified xsi:type="dcterms:W3CDTF">2008-06-04T22:13:32Z</dcterms:modified>
  <cp:revision>84</cp:revision>
  <dc:subject/>
  <dc:title>AT Basic System Example</dc:title>
</cp:coreProperties>
</file>