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E718-E96C-40FF-A5FC-E20AB6815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B239-8A1D-43C7-B21C-9CB20944E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3296-8269-4775-8A12-E45F3DA81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6169-2D69-44FD-872F-B43ADAE9F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E9A5-CDD0-4BBB-8F73-B70ECA73E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7F033-3DB9-464E-8701-3CFDDFD220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26D36-44C7-4A06-9A42-0E4A50BEB4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399E5-2808-47B5-BAB0-2D8F186245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85883-9579-4A8E-9141-62B1E7C7F5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6DFF3-33A4-48C6-AC27-BBCEBC4944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599A0-3D86-4CEA-AEF8-32A568DF79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05818-F325-4FA1-8F66-F5DF225655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A1BA8-C66A-4E51-9F06-E721850382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04426-222D-42C6-9932-4BE1571BC3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BE3A0-8D7F-4CE7-9584-312D878BDB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2D014-74BC-4B9A-A0DD-13A569BD85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FDF70-99BF-4A7D-8E45-47EBEC9F66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7D9B-EB58-464D-B296-1FF723A84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72160" y="863640"/>
            <a:ext cx="590472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2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2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3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06360" y="860400"/>
            <a:ext cx="57373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7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bw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18:30:41Z</cp:lastPrinted>
  <dcterms:modified xsi:type="dcterms:W3CDTF">2008-06-04T21:41:17Z</dcterms:modified>
  <cp:revision>88</cp:revision>
  <dc:subject/>
  <dc:title>AT Basic System Example</dc:title>
</cp:coreProperties>
</file>