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C8A76-918A-42C7-AC9F-8CFBDC5253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646BD-4301-4085-A1AD-0FBD334B5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8EB06-FDFA-4D0E-8DA8-82F82BF66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9CFF4-A1D0-45F6-ACE6-DD949FFD8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530C8-BDD2-4097-81F6-A26E7FEE0D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D1518-44BA-46D3-B94B-A296A35CFF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10AAA-FA0C-4ECF-AD02-0EE1E42E2C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7B6D3-C0A8-4F75-A583-509DA2638D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BFA09-7FAC-454E-B890-83404221B5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D5D3E-B7D1-4FC3-8263-044B2DBB91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57794-80FB-4207-9902-13A880AF48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58F48-1D1A-4CBF-A258-BFA815F09B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5F609-A3E0-469A-9EB9-9CF62DF820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F35BF-1889-4ABD-8B67-A7EC87DCA1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1E7FB-0269-4142-9929-803971E1C6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2A408-BF6A-4219-9D88-37BE1B0884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8E375-4D70-40C8-B5D4-BDC52AC9BD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28236-C75F-4BEB-A6B4-447835D067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Jack Donovan</cp:lastModifiedBy>
  <dcterms:modified xsi:type="dcterms:W3CDTF">2009-06-25T22:10:05Z</dcterms:modified>
  <cp:revision>83</cp:revision>
  <dc:subject/>
  <dc:title>AT Basic System Example</dc:title>
</cp:coreProperties>
</file>