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3BDA39-D8C7-4CD9-B38F-F1FB123250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83822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0880" y="4395240"/>
            <a:ext cx="83822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8BAD47-6D63-46EF-BE5D-1C8FB3D1A6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6040" y="228600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80880" y="439524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6040" y="439524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A73331-D77D-4343-B27B-181FA20BBD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2698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15160" y="2286000"/>
            <a:ext cx="2698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49440" y="2286000"/>
            <a:ext cx="2698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80880" y="4395240"/>
            <a:ext cx="2698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15160" y="4395240"/>
            <a:ext cx="2698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49440" y="4395240"/>
            <a:ext cx="2698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DBDC33-445D-439E-A751-52D798F5B9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0880" y="2286000"/>
            <a:ext cx="838224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83822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4090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6040" y="2286000"/>
            <a:ext cx="4090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80880" y="837720"/>
            <a:ext cx="8382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040" y="2286000"/>
            <a:ext cx="4090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0880" y="439524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80880" y="2286000"/>
            <a:ext cx="838224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ABFA3D-6A8B-4506-A783-10E91FD2F1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4090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040" y="228600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6040" y="439524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6040" y="228600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0880" y="4395240"/>
            <a:ext cx="83822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83822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0880" y="4395240"/>
            <a:ext cx="83822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6040" y="228600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0880" y="439524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6040" y="439524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2698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15160" y="2286000"/>
            <a:ext cx="2698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49440" y="2286000"/>
            <a:ext cx="2698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80880" y="4395240"/>
            <a:ext cx="2698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15160" y="4395240"/>
            <a:ext cx="2698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49440" y="4395240"/>
            <a:ext cx="2698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83822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4CEE30-D8ED-4EF5-AB38-BE6850F7E1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4090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040" y="2286000"/>
            <a:ext cx="4090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C1050D-09FF-415A-A523-E04F2F3E06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857E60-7418-434B-8CE4-4714B00115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80880" y="837720"/>
            <a:ext cx="8382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6FA0FE-BE0A-4871-8320-FB191710E9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6040" y="2286000"/>
            <a:ext cx="4090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80880" y="439524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44B33A-8C43-42F0-B498-FD6DD61A89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4090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6040" y="228600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6040" y="439524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695EAD-C478-4C09-A14B-0BDB02EA77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6040" y="228600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880" y="4395240"/>
            <a:ext cx="83822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724F74-7283-4765-A84E-098BF2F3B7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7262" t="6352" r="10487" b="3395"/>
          <a:stretch/>
        </p:blipFill>
        <p:spPr>
          <a:xfrm>
            <a:off x="685800" y="1219320"/>
            <a:ext cx="7772400" cy="541008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rcRect l="0" t="0" r="0" b="54366"/>
          <a:stretch/>
        </p:blipFill>
        <p:spPr>
          <a:xfrm>
            <a:off x="2495520" y="434880"/>
            <a:ext cx="6191280" cy="403200"/>
          </a:xfrm>
          <a:prstGeom prst="rect">
            <a:avLst/>
          </a:prstGeom>
          <a:ln w="0">
            <a:noFill/>
          </a:ln>
        </p:spPr>
      </p:pic>
      <p:pic>
        <p:nvPicPr>
          <p:cNvPr id="2" name="" descr=""/>
          <p:cNvPicPr/>
          <p:nvPr/>
        </p:nvPicPr>
        <p:blipFill>
          <a:blip r:embed="rId4"/>
          <a:stretch/>
        </p:blipFill>
        <p:spPr>
          <a:xfrm>
            <a:off x="668160" y="284040"/>
            <a:ext cx="1541520" cy="478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80880" y="2286000"/>
            <a:ext cx="83822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752480"/>
            <a:ext cx="8226360" cy="0"/>
          </a:xfrm>
          <a:prstGeom prst="line">
            <a:avLst/>
          </a:prstGeom>
          <a:ln w="38160">
            <a:solidFill>
              <a:srgbClr val="ff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80880" y="6477120"/>
            <a:ext cx="838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urce OCP-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E9479-B6F0-4BBE-AF8E-848A787B7E92}" type="slidenum">
              <a:rPr b="1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rcRect l="0" t="5707" r="0" b="0"/>
          <a:stretch/>
        </p:blipFill>
        <p:spPr>
          <a:xfrm>
            <a:off x="457200" y="2209680"/>
            <a:ext cx="8305920" cy="42674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457200" y="2038320"/>
            <a:ext cx="8318520" cy="182520"/>
          </a:xfrm>
          <a:prstGeom prst="rect">
            <a:avLst/>
          </a:prstGeom>
          <a:solidFill>
            <a:srgbClr val="ff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533520" y="380880"/>
            <a:ext cx="2889000" cy="8938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rcRect l="0" t="0" r="0" b="76113"/>
          <a:stretch/>
        </p:blipFill>
        <p:spPr>
          <a:xfrm>
            <a:off x="609480" y="1676520"/>
            <a:ext cx="8247240" cy="2808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35049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6629400"/>
            <a:ext cx="838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urce: OCP-I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OCP-IP SLD WG Outp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191120"/>
            <a:ext cx="815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5542200" y="1884240"/>
            <a:ext cx="3165120" cy="1031400"/>
          </a:xfrm>
          <a:prstGeom prst="rect">
            <a:avLst/>
          </a:prstGeom>
          <a:solidFill>
            <a:srgbClr val="ffff00"/>
          </a:solidFill>
          <a:ln w="57240">
            <a:solidFill>
              <a:srgbClr val="ffff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Regular Releas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Features constantly adde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Backward compatibility maintaine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Support for OCP-IP delivere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Already planning future releas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3962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905120" y="3962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191120" y="3962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324480" y="3962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523880" y="441972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0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19920" y="44197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0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886200" y="441972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0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52280" y="441972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46280" y="544356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04920" y="5334120"/>
            <a:ext cx="930240" cy="428760"/>
          </a:xfrm>
          <a:prstGeom prst="rect">
            <a:avLst/>
          </a:prstGeom>
          <a:noFill/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July 2003: 1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62120" y="4267080"/>
            <a:ext cx="75960" cy="1067040"/>
          </a:xfrm>
          <a:prstGeom prst="line">
            <a:avLst/>
          </a:prstGeom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295280" y="4267080"/>
            <a:ext cx="304920" cy="1219320"/>
          </a:xfrm>
          <a:prstGeom prst="line">
            <a:avLst/>
          </a:prstGeom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295280" y="5562720"/>
            <a:ext cx="930240" cy="428760"/>
          </a:xfrm>
          <a:prstGeom prst="rect">
            <a:avLst/>
          </a:prstGeom>
          <a:noFill/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ept 2003: 1.1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2895480"/>
            <a:ext cx="761760" cy="1219320"/>
          </a:xfrm>
          <a:prstGeom prst="line">
            <a:avLst/>
          </a:prstGeom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4920" y="2362320"/>
            <a:ext cx="1234800" cy="428760"/>
          </a:xfrm>
          <a:prstGeom prst="rect">
            <a:avLst/>
          </a:prstGeom>
          <a:noFill/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ec 2003: OCP 2.0 Support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2057040" y="2971800"/>
            <a:ext cx="228600" cy="1143000"/>
          </a:xfrm>
          <a:prstGeom prst="line">
            <a:avLst/>
          </a:prstGeom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752480" y="2057400"/>
            <a:ext cx="1143000" cy="596160"/>
          </a:xfrm>
          <a:prstGeom prst="rect">
            <a:avLst/>
          </a:prstGeom>
          <a:noFill/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eb 2004: 2.01 &amp; Adapters Introduc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4267080"/>
            <a:ext cx="304920" cy="1676520"/>
          </a:xfrm>
          <a:prstGeom prst="line">
            <a:avLst/>
          </a:prstGeom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362320" y="6019920"/>
            <a:ext cx="930240" cy="428760"/>
          </a:xfrm>
          <a:prstGeom prst="rect">
            <a:avLst/>
          </a:prstGeom>
          <a:noFill/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eb 2004: 2.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200400" y="4267080"/>
            <a:ext cx="152280" cy="762120"/>
          </a:xfrm>
          <a:prstGeom prst="line">
            <a:avLst/>
          </a:prstGeom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895480" y="5105520"/>
            <a:ext cx="930240" cy="596160"/>
          </a:xfrm>
          <a:prstGeom prst="rect">
            <a:avLst/>
          </a:prstGeom>
          <a:noFill/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ug 2004: Monitors Introduc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95680" y="4267080"/>
            <a:ext cx="228600" cy="1371600"/>
          </a:xfrm>
          <a:prstGeom prst="line">
            <a:avLst/>
          </a:prstGeom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267080" y="5715000"/>
            <a:ext cx="930240" cy="596160"/>
          </a:xfrm>
          <a:prstGeom prst="rect">
            <a:avLst/>
          </a:prstGeom>
          <a:noFill/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eb 2005: OCP 2.1 Support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H="1" flipV="1">
            <a:off x="3504960" y="3276720"/>
            <a:ext cx="75960" cy="914400"/>
          </a:xfrm>
          <a:prstGeom prst="line">
            <a:avLst/>
          </a:prstGeom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048120" y="2743200"/>
            <a:ext cx="930240" cy="428760"/>
          </a:xfrm>
          <a:prstGeom prst="rect">
            <a:avLst/>
          </a:prstGeom>
          <a:noFill/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ct 2004: 2.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267080" y="2666880"/>
            <a:ext cx="990720" cy="1447920"/>
          </a:xfrm>
          <a:prstGeom prst="line">
            <a:avLst/>
          </a:prstGeom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352680" y="1981080"/>
            <a:ext cx="1828800" cy="596160"/>
          </a:xfrm>
          <a:prstGeom prst="rect">
            <a:avLst/>
          </a:prstGeom>
          <a:noFill/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July 2005: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CP 2.1.1 &amp; Example Package Releas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486400" y="5791320"/>
            <a:ext cx="1295280" cy="763560"/>
          </a:xfrm>
          <a:prstGeom prst="rect">
            <a:avLst/>
          </a:prstGeom>
          <a:noFill/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arch 2006: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CP 2.1.2 &amp; TL3 Channel Introduc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6171840" y="4267080"/>
            <a:ext cx="609480" cy="1447920"/>
          </a:xfrm>
          <a:prstGeom prst="line">
            <a:avLst/>
          </a:prstGeom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867280" y="3124080"/>
            <a:ext cx="1143000" cy="428760"/>
          </a:xfrm>
          <a:prstGeom prst="rect">
            <a:avLst/>
          </a:prstGeom>
          <a:noFill/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pril 2006: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CP 2.1.2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477120" y="3581280"/>
            <a:ext cx="380880" cy="533520"/>
          </a:xfrm>
          <a:prstGeom prst="line">
            <a:avLst/>
          </a:prstGeom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705720" y="5105520"/>
            <a:ext cx="1143000" cy="596160"/>
          </a:xfrm>
          <a:prstGeom prst="rect">
            <a:avLst/>
          </a:prstGeom>
          <a:noFill/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ay 2006: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heckers Introduc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010280" y="4267080"/>
            <a:ext cx="228600" cy="762120"/>
          </a:xfrm>
          <a:prstGeom prst="line">
            <a:avLst/>
          </a:prstGeom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162920" y="3276720"/>
            <a:ext cx="1218960" cy="428760"/>
          </a:xfrm>
          <a:prstGeom prst="rect">
            <a:avLst/>
          </a:prstGeom>
          <a:noFill/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ct 2006: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CP 2.1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772400" y="3733920"/>
            <a:ext cx="152280" cy="380880"/>
          </a:xfrm>
          <a:prstGeom prst="line">
            <a:avLst/>
          </a:prstGeom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2F4B8A-D1F2-4CBA-BB95-9D49ACC24C36}" type="slidenum">
              <a:t>1</a:t>
            </a:fld>
          </a:p>
        </p:txBody>
      </p:sp>
    </p:spTree>
  </p:cSld>
  <p:transition spd="med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2T18:53:25Z</dcterms:created>
  <dc:creator>OCP-IP Administration</dc:creator>
  <dc:description/>
  <dc:language>en-US</dc:language>
  <cp:lastModifiedBy>aluukinen</cp:lastModifiedBy>
  <dcterms:modified xsi:type="dcterms:W3CDTF">2006-10-31T18:52:52Z</dcterms:modified>
  <cp:revision>168</cp:revision>
  <dc:subject/>
  <dc:title>OCP-IP Introductory Presentation</dc:title>
</cp:coreProperties>
</file>