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61332-664D-4ECF-8160-94DC54CD6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E6B81-0EBD-4050-92ED-D34BDB9B01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B316D-3B12-48E2-B29D-FC62D189F0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644A0-B432-44A2-B4CD-A1B6A02E17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799DF-F8B3-49B9-AE11-6EFD460AFA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C926E-39E9-4FEC-9F2A-916AB06B3E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4BC3C-AEA3-446B-BCC6-A1EBF7B6FD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B94B7-03F1-47F0-AE28-2BFED49FD1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B1C90-8B12-40CB-8EC4-8EC14846F2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FA664-D82E-4CA8-B2A7-C9E2D05AC9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18ADF-E796-402B-9628-905B7145EB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B829A-7D48-45CF-9AFA-CB588DB42E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2CE0E-B82B-43E7-9FE9-D1002DAB37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39293-78D3-4AF6-B1DC-05133E7CA7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311E5-CC70-4D08-A6DD-EDC5658DA6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0D143-D6ED-4A06-963D-E26AE978B7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9F9B2-29EF-4188-9E17-97A8203ED6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CA9BE-8404-4776-8C0D-F8160D3098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DCD4F-C8F5-45BC-A090-DB87C1EA56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51347-3727-4752-A50D-F54524BF2B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ACF77-3FDB-4C90-B74D-8B4B224787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1C01D-9808-4842-8271-C194872DFA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71DEB-C26D-42DA-9EAA-3C6FBD47CB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35554-A9F4-432F-8EFC-841C5424A9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EA175-42C7-484F-B292-FBCBDA0685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CD700-3051-4883-ADF6-E77C6A7B87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4ECAC-5C0F-41A2-BEF0-1A8A84A882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0F01C-4825-4EA8-A424-6680469B88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40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85CD2-0FEC-44AF-A8D0-59A57433D9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30DDE-D3AB-465D-8E21-BB4A88B2F5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5588C-2416-46F1-A36D-43D9453E95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913C7-2056-4A79-95FE-B108332302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BEFE6-CECE-4433-BD36-6D23B3A49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CAAF6-F920-4599-B67F-0BD0EF5289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48961-25DD-41E8-9454-1445D8EE4E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F4ABB-7D09-42F0-8A6F-392D41B51D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8587E-701F-440A-80CA-B49D720A56B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66FCB-CB70-492E-B8AD-C1159EE528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DE5A1-4BA7-45A4-89A3-09A4D16E77D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08F1D-154E-40C3-BF80-AAD0271F55E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A2634-E493-4EFD-A01E-2B1E800037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C9004-BAB2-44F6-A4F9-47FE8D51594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57C0A-347A-4A70-9E25-6A0B28C156C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138A0-782A-4884-9557-BD4BB9A9421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1829F-A788-445E-B31B-4F3B7A77606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BFA97-EB08-4640-B388-78D9916515A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A8476-9940-496F-A092-17D6BA79D9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AC265-9185-402A-A33F-8AFF62ABE52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63175-C890-45A6-A989-6E833D8DAE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8AFE3-AA2E-43C3-AE50-AE0DC5F94F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7FC58-C6CF-4141-81E4-04DA819B33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E1A60-1716-4588-9346-F372D69FF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2E3D4-47DF-4C5B-B699-9562C2DCFD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D1F77-76D0-49A7-B50E-CF8AEEE3DE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DC845-2452-45B4-A636-15C69C204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9C5F1-727C-4DB9-8C0A-BC89F79AC0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10A57F15-433C-44B5-9DDC-EED7C85E6B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733920" y="5181480"/>
            <a:ext cx="4572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earching and Directly Associating Parameter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Searching &amp; 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2403000" y="1227960"/>
            <a:ext cx="4374720" cy="986760"/>
            <a:chOff x="2403000" y="1227960"/>
            <a:chExt cx="4374720" cy="986760"/>
          </a:xfrm>
        </p:grpSpPr>
        <p:sp>
          <p:nvSpPr>
            <p:cNvPr id="188" name="AutoShape 23"/>
            <p:cNvSpPr/>
            <p:nvPr/>
          </p:nvSpPr>
          <p:spPr>
            <a:xfrm>
              <a:off x="2403000" y="1227960"/>
              <a:ext cx="437472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handles for owner modules’ parameters usi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ion broker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373200" y="1843200"/>
              <a:ext cx="23616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447920" y="322272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447920" y="371016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9440" y="243540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1447920" y="3071880"/>
            <a:ext cx="6400800" cy="1366920"/>
            <a:chOff x="1447920" y="3071880"/>
            <a:chExt cx="6400800" cy="1366920"/>
          </a:xfrm>
        </p:grpSpPr>
        <p:sp>
          <p:nvSpPr>
            <p:cNvPr id="210" name="AutoShape 23"/>
            <p:cNvSpPr/>
            <p:nvPr/>
          </p:nvSpPr>
          <p:spPr>
            <a:xfrm>
              <a:off x="1447920" y="3071880"/>
              <a:ext cx="6400800" cy="9907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473640" y="4151520"/>
              <a:ext cx="1970640" cy="28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1763640" y="1248840"/>
            <a:ext cx="5770800" cy="950400"/>
            <a:chOff x="1763640" y="1248840"/>
            <a:chExt cx="5770800" cy="950400"/>
          </a:xfrm>
        </p:grpSpPr>
        <p:sp>
          <p:nvSpPr>
            <p:cNvPr id="214" name="AutoShape 23"/>
            <p:cNvSpPr/>
            <p:nvPr/>
          </p:nvSpPr>
          <p:spPr>
            <a:xfrm>
              <a:off x="1763640" y="1248840"/>
              <a:ext cx="577080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the handles of the owner modul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ci_parameters to respective cci_param_handle through the brok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277080" y="1895040"/>
              <a:ext cx="2362320" cy="3042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6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178720" y="2437560"/>
            <a:ext cx="478620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cci-parameters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 using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3474360" y="3283200"/>
            <a:ext cx="4252680" cy="520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rite it’s default value to the other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1676520" y="320976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startup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s of 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3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40"/>
          <p:cNvGrpSpPr/>
          <p:nvPr/>
        </p:nvGrpSpPr>
        <p:grpSpPr>
          <a:xfrm>
            <a:off x="1630440" y="1184040"/>
            <a:ext cx="5731200" cy="749520"/>
            <a:chOff x="1630440" y="1184040"/>
            <a:chExt cx="5731200" cy="749520"/>
          </a:xfrm>
        </p:grpSpPr>
        <p:sp>
          <p:nvSpPr>
            <p:cNvPr id="241" name="AutoShape 5"/>
            <p:cNvSpPr/>
            <p:nvPr/>
          </p:nvSpPr>
          <p:spPr>
            <a:xfrm>
              <a:off x="3237840" y="1556640"/>
              <a:ext cx="2361960" cy="376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AutoShape 23"/>
            <p:cNvSpPr/>
            <p:nvPr/>
          </p:nvSpPr>
          <p:spPr>
            <a:xfrm>
              <a:off x="1630440" y="1184040"/>
              <a:ext cx="573120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initialized handles of parameters to by sync’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4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5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6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7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8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9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50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51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52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3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4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5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6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7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AutoShape 23"/>
          <p:cNvSpPr/>
          <p:nvPr/>
        </p:nvSpPr>
        <p:spPr>
          <a:xfrm>
            <a:off x="722160" y="3275280"/>
            <a:ext cx="78523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77880" y="2368440"/>
            <a:ext cx="7856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values of the paramet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 (cci::cci_param_handle  _param_handle_1, cci::cci_param_handle _param_handle_2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1" name="Curved Connector 10"/>
          <p:cNvCxnSpPr>
            <a:stCxn id="257" idx="0"/>
            <a:endCxn id="258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62" name="AutoShape 6"/>
          <p:cNvSpPr/>
          <p:nvPr/>
        </p:nvSpPr>
        <p:spPr>
          <a:xfrm>
            <a:off x="3735360" y="4105440"/>
            <a:ext cx="1827360" cy="16164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3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3" name="Curved Connector 10"/>
          <p:cNvCxnSpPr>
            <a:stCxn id="264" idx="4"/>
            <a:endCxn id="248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5" name="Group 33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6" name="AutoShape 15"/>
            <p:cNvSpPr/>
            <p:nvPr/>
          </p:nvSpPr>
          <p:spPr>
            <a:xfrm>
              <a:off x="6934320" y="464796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4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7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49"/>
          <p:cNvGrpSpPr/>
          <p:nvPr/>
        </p:nvGrpSpPr>
        <p:grpSpPr>
          <a:xfrm>
            <a:off x="76320" y="3276720"/>
            <a:ext cx="8961480" cy="2574720"/>
            <a:chOff x="76320" y="3276720"/>
            <a:chExt cx="8961480" cy="2574720"/>
          </a:xfrm>
        </p:grpSpPr>
        <p:grpSp>
          <p:nvGrpSpPr>
            <p:cNvPr id="270" name="Group 48"/>
            <p:cNvGrpSpPr/>
            <p:nvPr/>
          </p:nvGrpSpPr>
          <p:grpSpPr>
            <a:xfrm>
              <a:off x="76320" y="3276720"/>
              <a:ext cx="8961480" cy="2574720"/>
              <a:chOff x="76320" y="3276720"/>
              <a:chExt cx="8961480" cy="25747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6720"/>
                <a:ext cx="8961480" cy="2574720"/>
                <a:chOff x="76320" y="3276720"/>
                <a:chExt cx="8961480" cy="25747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6720"/>
                  <a:ext cx="8961480" cy="2574720"/>
                  <a:chOff x="76320" y="3276720"/>
                  <a:chExt cx="8961480" cy="2574720"/>
                </a:xfrm>
              </p:grpSpPr>
              <p:grpSp>
                <p:nvGrpSpPr>
                  <p:cNvPr id="273" name="Group 5"/>
                  <p:cNvGrpSpPr/>
                  <p:nvPr/>
                </p:nvGrpSpPr>
                <p:grpSpPr>
                  <a:xfrm>
                    <a:off x="76320" y="3276720"/>
                    <a:ext cx="8961480" cy="2574720"/>
                    <a:chOff x="76320" y="3276720"/>
                    <a:chExt cx="8961480" cy="2574720"/>
                  </a:xfrm>
                </p:grpSpPr>
                <p:grpSp>
                  <p:nvGrpSpPr>
                    <p:cNvPr id="274" name="Group 1"/>
                    <p:cNvGrpSpPr/>
                    <p:nvPr/>
                  </p:nvGrpSpPr>
                  <p:grpSpPr>
                    <a:xfrm>
                      <a:off x="76320" y="3276720"/>
                      <a:ext cx="8961480" cy="2574720"/>
                      <a:chOff x="76320" y="3276720"/>
                      <a:chExt cx="8961480" cy="2574720"/>
                    </a:xfrm>
                  </p:grpSpPr>
                  <p:sp>
                    <p:nvSpPr>
                      <p:cNvPr id="275" name="AutoShape 3"/>
                      <p:cNvSpPr/>
                      <p:nvPr/>
                    </p:nvSpPr>
                    <p:spPr>
                      <a:xfrm>
                        <a:off x="76320" y="3276720"/>
                        <a:ext cx="8961480" cy="2041560"/>
                      </a:xfrm>
                      <a:prstGeom prst="roundRect">
                        <a:avLst>
                          <a:gd name="adj" fmla="val 134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76" name="AutoShape 8"/>
                      <p:cNvSpPr/>
                      <p:nvPr/>
                    </p:nvSpPr>
                    <p:spPr>
                      <a:xfrm>
                        <a:off x="3961080" y="5341320"/>
                        <a:ext cx="1601640" cy="51012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Top_Module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77" name="Group 32"/>
                    <p:cNvGrpSpPr/>
                    <p:nvPr/>
                  </p:nvGrpSpPr>
                  <p:grpSpPr>
                    <a:xfrm>
                      <a:off x="304920" y="4070520"/>
                      <a:ext cx="4030560" cy="963360"/>
                      <a:chOff x="304920" y="4070520"/>
                      <a:chExt cx="4030560" cy="963360"/>
                    </a:xfrm>
                  </p:grpSpPr>
                  <p:grpSp>
                    <p:nvGrpSpPr>
                      <p:cNvPr id="278" name="Group 29"/>
                      <p:cNvGrpSpPr/>
                      <p:nvPr/>
                    </p:nvGrpSpPr>
                    <p:grpSpPr>
                      <a:xfrm>
                        <a:off x="304920" y="4070520"/>
                        <a:ext cx="4030560" cy="523800"/>
                        <a:chOff x="304920" y="4070520"/>
                        <a:chExt cx="4030560" cy="523800"/>
                      </a:xfrm>
                    </p:grpSpPr>
                    <p:sp>
                      <p:nvSpPr>
                        <p:cNvPr id="279" name="AutoShape 11"/>
                        <p:cNvSpPr/>
                        <p:nvPr/>
                      </p:nvSpPr>
                      <p:spPr>
                        <a:xfrm>
                          <a:off x="304920" y="4070520"/>
                          <a:ext cx="403056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0" name="Group 28"/>
                        <p:cNvGrpSpPr/>
                        <p:nvPr/>
                      </p:nvGrpSpPr>
                      <p:grpSpPr>
                        <a:xfrm>
                          <a:off x="449280" y="4169880"/>
                          <a:ext cx="3741840" cy="293400"/>
                          <a:chOff x="449280" y="4169880"/>
                          <a:chExt cx="3741840" cy="293400"/>
                        </a:xfrm>
                      </p:grpSpPr>
                      <p:sp>
                        <p:nvSpPr>
                          <p:cNvPr id="281" name="AutoShape 12"/>
                          <p:cNvSpPr/>
                          <p:nvPr/>
                        </p:nvSpPr>
                        <p:spPr>
                          <a:xfrm>
                            <a:off x="449280" y="4169880"/>
                            <a:ext cx="198936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k_freq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2" name="AutoShape 15"/>
                          <p:cNvSpPr/>
                          <p:nvPr/>
                        </p:nvSpPr>
                        <p:spPr>
                          <a:xfrm>
                            <a:off x="2362320" y="4169880"/>
                            <a:ext cx="182880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 fontScale="96000"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1000 (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83" name="AutoShape 6"/>
                      <p:cNvSpPr/>
                      <p:nvPr/>
                    </p:nvSpPr>
                    <p:spPr>
                      <a:xfrm>
                        <a:off x="122076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1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84" name="Group 2"/>
                    <p:cNvGrpSpPr/>
                    <p:nvPr/>
                  </p:nvGrpSpPr>
                  <p:grpSpPr>
                    <a:xfrm>
                      <a:off x="4419720" y="4070520"/>
                      <a:ext cx="4411440" cy="963360"/>
                      <a:chOff x="4419720" y="4070520"/>
                      <a:chExt cx="4411440" cy="963360"/>
                    </a:xfrm>
                  </p:grpSpPr>
                  <p:grpSp>
                    <p:nvGrpSpPr>
                      <p:cNvPr id="285" name="Group 31"/>
                      <p:cNvGrpSpPr/>
                      <p:nvPr/>
                    </p:nvGrpSpPr>
                    <p:grpSpPr>
                      <a:xfrm>
                        <a:off x="4419720" y="4070520"/>
                        <a:ext cx="4411440" cy="523800"/>
                        <a:chOff x="4419720" y="4070520"/>
                        <a:chExt cx="4411440" cy="523800"/>
                      </a:xfrm>
                    </p:grpSpPr>
                    <p:sp>
                      <p:nvSpPr>
                        <p:cNvPr id="286" name="AutoShape 11"/>
                        <p:cNvSpPr/>
                        <p:nvPr/>
                      </p:nvSpPr>
                      <p:spPr>
                        <a:xfrm>
                          <a:off x="4419720" y="4070520"/>
                          <a:ext cx="441144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7" name="Group 30"/>
                        <p:cNvGrpSpPr/>
                        <p:nvPr/>
                      </p:nvGrpSpPr>
                      <p:grpSpPr>
                        <a:xfrm>
                          <a:off x="4556160" y="4145040"/>
                          <a:ext cx="4275000" cy="335160"/>
                          <a:chOff x="4556160" y="4145040"/>
                          <a:chExt cx="4275000" cy="335160"/>
                        </a:xfrm>
                      </p:grpSpPr>
                      <p:sp>
                        <p:nvSpPr>
                          <p:cNvPr id="288" name="AutoShape 12"/>
                          <p:cNvSpPr/>
                          <p:nvPr/>
                        </p:nvSpPr>
                        <p:spPr>
                          <a:xfrm>
                            <a:off x="4556160" y="4145040"/>
                            <a:ext cx="237816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ock_speed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9" name="AutoShape 15"/>
                          <p:cNvSpPr/>
                          <p:nvPr/>
                        </p:nvSpPr>
                        <p:spPr>
                          <a:xfrm>
                            <a:off x="6850080" y="4145040"/>
                            <a:ext cx="198108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2 (K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90" name="AutoShape 6"/>
                      <p:cNvSpPr/>
                      <p:nvPr/>
                    </p:nvSpPr>
                    <p:spPr>
                      <a:xfrm>
                        <a:off x="571644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2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291" name="Oval 26"/>
                  <p:cNvSpPr/>
                  <p:nvPr/>
                </p:nvSpPr>
                <p:spPr>
                  <a:xfrm>
                    <a:off x="4495680" y="4130640"/>
                    <a:ext cx="2354400" cy="3650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92" name="AutoShape 15"/>
                <p:cNvSpPr/>
                <p:nvPr/>
              </p:nvSpPr>
              <p:spPr>
                <a:xfrm>
                  <a:off x="7010280" y="4191120"/>
                  <a:ext cx="167652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Old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93" name="Oval 25"/>
              <p:cNvSpPr/>
              <p:nvPr/>
            </p:nvSpPr>
            <p:spPr>
              <a:xfrm>
                <a:off x="380880" y="4100400"/>
                <a:ext cx="2057400" cy="44136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94" name="Group 25"/>
            <p:cNvGrpSpPr/>
            <p:nvPr/>
          </p:nvGrpSpPr>
          <p:grpSpPr>
            <a:xfrm>
              <a:off x="1409400" y="3429000"/>
              <a:ext cx="4264200" cy="704880"/>
              <a:chOff x="1409400" y="3429000"/>
              <a:chExt cx="4264200" cy="704880"/>
            </a:xfrm>
          </p:grpSpPr>
          <p:cxnSp>
            <p:nvCxnSpPr>
              <p:cNvPr id="295" name="Curved Connector 10"/>
              <p:cNvCxnSpPr>
                <a:stCxn id="293" idx="0"/>
                <a:endCxn id="296" idx="1"/>
              </p:cNvCxnSpPr>
              <p:nvPr/>
            </p:nvCxnSpPr>
            <p:spPr>
              <a:xfrm flipH="1" flipV="1" rot="5400000">
                <a:off x="1937160" y="3052800"/>
                <a:ext cx="506880" cy="156276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  <p:sp>
            <p:nvSpPr>
              <p:cNvPr id="296" name="AutoShape 15"/>
              <p:cNvSpPr/>
              <p:nvPr/>
            </p:nvSpPr>
            <p:spPr>
              <a:xfrm>
                <a:off x="2971800" y="3429000"/>
                <a:ext cx="1828800" cy="303120"/>
              </a:xfrm>
              <a:prstGeom prst="roundRect">
                <a:avLst>
                  <a:gd name="adj" fmla="val 46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Bitstream Charter"/>
                  </a:rPr>
                  <a:t>param_value_sync</a:t>
                </a:r>
                <a:endParaRPr b="0" lang="en-US" sz="11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cxnSp>
            <p:nvCxnSpPr>
              <p:cNvPr id="297" name="Curved Connector 10"/>
              <p:cNvCxnSpPr>
                <a:stCxn id="296" idx="3"/>
                <a:endCxn id="291" idx="0"/>
              </p:cNvCxnSpPr>
              <p:nvPr/>
            </p:nvCxnSpPr>
            <p:spPr>
              <a:xfrm>
                <a:off x="4800240" y="3580920"/>
                <a:ext cx="873720" cy="55332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</p:grpSp>
      </p:grpSp>
      <p:grpSp>
        <p:nvGrpSpPr>
          <p:cNvPr id="298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9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0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1" name="Curved Connector 9"/>
          <p:cNvCxnSpPr>
            <a:stCxn id="300" idx="1"/>
            <a:endCxn id="293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2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3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4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5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6" name="AutoShape 42"/>
          <p:cNvCxnSpPr>
            <a:stCxn id="296" idx="0"/>
            <a:endCxn id="305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07" name="Group 15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8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9" name="Oval 39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0" name="Rectangle 5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23"/>
          <p:cNvGrpSpPr/>
          <p:nvPr/>
        </p:nvGrpSpPr>
        <p:grpSpPr>
          <a:xfrm>
            <a:off x="76320" y="3581280"/>
            <a:ext cx="8961480" cy="2574720"/>
            <a:chOff x="76320" y="3581280"/>
            <a:chExt cx="8961480" cy="2574720"/>
          </a:xfrm>
        </p:grpSpPr>
        <p:grpSp>
          <p:nvGrpSpPr>
            <p:cNvPr id="313" name="Group 92"/>
            <p:cNvGrpSpPr/>
            <p:nvPr/>
          </p:nvGrpSpPr>
          <p:grpSpPr>
            <a:xfrm>
              <a:off x="76320" y="3581280"/>
              <a:ext cx="8961480" cy="2574720"/>
              <a:chOff x="76320" y="3581280"/>
              <a:chExt cx="8961480" cy="2574720"/>
            </a:xfrm>
          </p:grpSpPr>
          <p:grpSp>
            <p:nvGrpSpPr>
              <p:cNvPr id="314" name="Group 93"/>
              <p:cNvGrpSpPr/>
              <p:nvPr/>
            </p:nvGrpSpPr>
            <p:grpSpPr>
              <a:xfrm>
                <a:off x="76320" y="3581280"/>
                <a:ext cx="8961480" cy="2574720"/>
                <a:chOff x="76320" y="3581280"/>
                <a:chExt cx="8961480" cy="2574720"/>
              </a:xfrm>
            </p:grpSpPr>
            <p:grpSp>
              <p:nvGrpSpPr>
                <p:cNvPr id="315" name="Group 94"/>
                <p:cNvGrpSpPr/>
                <p:nvPr/>
              </p:nvGrpSpPr>
              <p:grpSpPr>
                <a:xfrm>
                  <a:off x="76320" y="3581280"/>
                  <a:ext cx="8961480" cy="2574720"/>
                  <a:chOff x="76320" y="3581280"/>
                  <a:chExt cx="8961480" cy="2574720"/>
                </a:xfrm>
              </p:grpSpPr>
              <p:grpSp>
                <p:nvGrpSpPr>
                  <p:cNvPr id="316" name="Group 95"/>
                  <p:cNvGrpSpPr/>
                  <p:nvPr/>
                </p:nvGrpSpPr>
                <p:grpSpPr>
                  <a:xfrm>
                    <a:off x="76320" y="3581280"/>
                    <a:ext cx="8961480" cy="2574720"/>
                    <a:chOff x="76320" y="3581280"/>
                    <a:chExt cx="8961480" cy="2574720"/>
                  </a:xfrm>
                </p:grpSpPr>
                <p:grpSp>
                  <p:nvGrpSpPr>
                    <p:cNvPr id="317" name="Group 96"/>
                    <p:cNvGrpSpPr/>
                    <p:nvPr/>
                  </p:nvGrpSpPr>
                  <p:grpSpPr>
                    <a:xfrm>
                      <a:off x="76320" y="3581280"/>
                      <a:ext cx="8961480" cy="2574720"/>
                      <a:chOff x="76320" y="3581280"/>
                      <a:chExt cx="8961480" cy="2574720"/>
                    </a:xfrm>
                  </p:grpSpPr>
                  <p:grpSp>
                    <p:nvGrpSpPr>
                      <p:cNvPr id="318" name="Group 1"/>
                      <p:cNvGrpSpPr/>
                      <p:nvPr/>
                    </p:nvGrpSpPr>
                    <p:grpSpPr>
                      <a:xfrm>
                        <a:off x="76320" y="3581280"/>
                        <a:ext cx="8961480" cy="2574720"/>
                        <a:chOff x="76320" y="3581280"/>
                        <a:chExt cx="8961480" cy="2574720"/>
                      </a:xfrm>
                    </p:grpSpPr>
                    <p:sp>
                      <p:nvSpPr>
                        <p:cNvPr id="319" name="AutoShape 3"/>
                        <p:cNvSpPr/>
                        <p:nvPr/>
                      </p:nvSpPr>
                      <p:spPr>
                        <a:xfrm>
                          <a:off x="76320" y="3581280"/>
                          <a:ext cx="8961480" cy="2041560"/>
                        </a:xfrm>
                        <a:prstGeom prst="roundRect">
                          <a:avLst>
                            <a:gd name="adj" fmla="val 134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0" name="AutoShape 8"/>
                        <p:cNvSpPr/>
                        <p:nvPr/>
                      </p:nvSpPr>
                      <p:spPr>
                        <a:xfrm>
                          <a:off x="3961080" y="5645880"/>
                          <a:ext cx="1601640" cy="51012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Top_Module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1" name="Group 32"/>
                      <p:cNvGrpSpPr/>
                      <p:nvPr/>
                    </p:nvGrpSpPr>
                    <p:grpSpPr>
                      <a:xfrm>
                        <a:off x="304920" y="4375080"/>
                        <a:ext cx="4030560" cy="963360"/>
                        <a:chOff x="304920" y="4375080"/>
                        <a:chExt cx="4030560" cy="963360"/>
                      </a:xfrm>
                    </p:grpSpPr>
                    <p:grpSp>
                      <p:nvGrpSpPr>
                        <p:cNvPr id="322" name="Group 29"/>
                        <p:cNvGrpSpPr/>
                        <p:nvPr/>
                      </p:nvGrpSpPr>
                      <p:grpSpPr>
                        <a:xfrm>
                          <a:off x="304920" y="4375080"/>
                          <a:ext cx="4030560" cy="523800"/>
                          <a:chOff x="304920" y="4375080"/>
                          <a:chExt cx="4030560" cy="523800"/>
                        </a:xfrm>
                      </p:grpSpPr>
                      <p:sp>
                        <p:nvSpPr>
                          <p:cNvPr id="323" name="AutoShape 11"/>
                          <p:cNvSpPr/>
                          <p:nvPr/>
                        </p:nvSpPr>
                        <p:spPr>
                          <a:xfrm>
                            <a:off x="304920" y="4375080"/>
                            <a:ext cx="403056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24" name="Group 28"/>
                          <p:cNvGrpSpPr/>
                          <p:nvPr/>
                        </p:nvGrpSpPr>
                        <p:grpSpPr>
                          <a:xfrm>
                            <a:off x="449280" y="4474440"/>
                            <a:ext cx="3741840" cy="293400"/>
                            <a:chOff x="449280" y="4474440"/>
                            <a:chExt cx="3741840" cy="293400"/>
                          </a:xfrm>
                        </p:grpSpPr>
                        <p:sp>
                          <p:nvSpPr>
                            <p:cNvPr id="325" name="AutoShape 12"/>
                            <p:cNvSpPr/>
                            <p:nvPr/>
                          </p:nvSpPr>
                          <p:spPr>
                            <a:xfrm>
                              <a:off x="449280" y="4474440"/>
                              <a:ext cx="198936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k_freq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26" name="AutoShape 15"/>
                            <p:cNvSpPr/>
                            <p:nvPr/>
                          </p:nvSpPr>
                          <p:spPr>
                            <a:xfrm>
                              <a:off x="2362320" y="4474440"/>
                              <a:ext cx="182880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 fontScale="96000"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1000 (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27" name="AutoShape 6"/>
                        <p:cNvSpPr/>
                        <p:nvPr/>
                      </p:nvSpPr>
                      <p:spPr>
                        <a:xfrm>
                          <a:off x="122076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1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8" name="Group 2"/>
                      <p:cNvGrpSpPr/>
                      <p:nvPr/>
                    </p:nvGrpSpPr>
                    <p:grpSpPr>
                      <a:xfrm>
                        <a:off x="4419720" y="4375080"/>
                        <a:ext cx="4411440" cy="963360"/>
                        <a:chOff x="4419720" y="4375080"/>
                        <a:chExt cx="4411440" cy="963360"/>
                      </a:xfrm>
                    </p:grpSpPr>
                    <p:grpSp>
                      <p:nvGrpSpPr>
                        <p:cNvPr id="329" name="Group 31"/>
                        <p:cNvGrpSpPr/>
                        <p:nvPr/>
                      </p:nvGrpSpPr>
                      <p:grpSpPr>
                        <a:xfrm>
                          <a:off x="4419720" y="4375080"/>
                          <a:ext cx="4411440" cy="523800"/>
                          <a:chOff x="4419720" y="4375080"/>
                          <a:chExt cx="4411440" cy="523800"/>
                        </a:xfrm>
                      </p:grpSpPr>
                      <p:sp>
                        <p:nvSpPr>
                          <p:cNvPr id="330" name="AutoShape 11"/>
                          <p:cNvSpPr/>
                          <p:nvPr/>
                        </p:nvSpPr>
                        <p:spPr>
                          <a:xfrm>
                            <a:off x="4419720" y="4375080"/>
                            <a:ext cx="441144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31" name="Group 30"/>
                          <p:cNvGrpSpPr/>
                          <p:nvPr/>
                        </p:nvGrpSpPr>
                        <p:grpSpPr>
                          <a:xfrm>
                            <a:off x="4556160" y="4449600"/>
                            <a:ext cx="4275000" cy="335160"/>
                            <a:chOff x="4556160" y="4449600"/>
                            <a:chExt cx="4275000" cy="335160"/>
                          </a:xfrm>
                        </p:grpSpPr>
                        <p:sp>
                          <p:nvSpPr>
                            <p:cNvPr id="332" name="AutoShape 12"/>
                            <p:cNvSpPr/>
                            <p:nvPr/>
                          </p:nvSpPr>
                          <p:spPr>
                            <a:xfrm>
                              <a:off x="4556160" y="4449600"/>
                              <a:ext cx="237816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ock_speed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33" name="AutoShape 15"/>
                            <p:cNvSpPr/>
                            <p:nvPr/>
                          </p:nvSpPr>
                          <p:spPr>
                            <a:xfrm>
                              <a:off x="6850080" y="4449600"/>
                              <a:ext cx="198108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2 (K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34" name="AutoShape 6"/>
                        <p:cNvSpPr/>
                        <p:nvPr/>
                      </p:nvSpPr>
                      <p:spPr>
                        <a:xfrm>
                          <a:off x="571644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2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5" name="Oval 26"/>
                    <p:cNvSpPr/>
                    <p:nvPr/>
                  </p:nvSpPr>
                  <p:spPr>
                    <a:xfrm>
                      <a:off x="4495680" y="4435200"/>
                      <a:ext cx="2354400" cy="36504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336" name="AutoShape 15"/>
                  <p:cNvSpPr/>
                  <p:nvPr/>
                </p:nvSpPr>
                <p:spPr>
                  <a:xfrm>
                    <a:off x="7010280" y="4495680"/>
                    <a:ext cx="1676520" cy="303120"/>
                  </a:xfrm>
                  <a:prstGeom prst="roundRect">
                    <a:avLst>
                      <a:gd name="adj" fmla="val 463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 anchorCtr="1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Old Value :</a:t>
                    </a: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 1000 (Hz)</a:t>
                    </a:r>
                    <a:endParaRPr b="0" lang="en-US" sz="11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37" name="Oval 25"/>
                <p:cNvSpPr/>
                <p:nvPr/>
              </p:nvSpPr>
              <p:spPr>
                <a:xfrm>
                  <a:off x="380880" y="44049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8" name="Group 117"/>
              <p:cNvGrpSpPr/>
              <p:nvPr/>
            </p:nvGrpSpPr>
            <p:grpSpPr>
              <a:xfrm>
                <a:off x="1409400" y="3733560"/>
                <a:ext cx="4264200" cy="704880"/>
                <a:chOff x="1409400" y="3733560"/>
                <a:chExt cx="4264200" cy="704880"/>
              </a:xfrm>
            </p:grpSpPr>
            <p:cxnSp>
              <p:nvCxnSpPr>
                <p:cNvPr id="339" name="Curved Connector 10"/>
                <p:cNvCxnSpPr>
                  <a:stCxn id="337" idx="0"/>
                  <a:endCxn id="340" idx="1"/>
                </p:cNvCxnSpPr>
                <p:nvPr/>
              </p:nvCxnSpPr>
              <p:spPr>
                <a:xfrm flipH="1" flipV="1" rot="5400000">
                  <a:off x="1937160" y="33573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40" name="AutoShape 15"/>
                <p:cNvSpPr/>
                <p:nvPr/>
              </p:nvSpPr>
              <p:spPr>
                <a:xfrm>
                  <a:off x="2971800" y="37335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41" name="Curved Connector 10"/>
                <p:cNvCxnSpPr>
                  <a:stCxn id="340" idx="3"/>
                  <a:endCxn id="335" idx="0"/>
                </p:cNvCxnSpPr>
                <p:nvPr/>
              </p:nvCxnSpPr>
              <p:spPr>
                <a:xfrm>
                  <a:off x="4800240" y="38854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42" name="AutoShape 23"/>
            <p:cNvSpPr/>
            <p:nvPr/>
          </p:nvSpPr>
          <p:spPr>
            <a:xfrm>
              <a:off x="6934320" y="4572000"/>
              <a:ext cx="1676160" cy="1522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3" name="AutoShape 23"/>
            <p:cNvSpPr/>
            <p:nvPr/>
          </p:nvSpPr>
          <p:spPr>
            <a:xfrm>
              <a:off x="2514600" y="4495680"/>
              <a:ext cx="1676520" cy="2286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4" name="Group 3"/>
          <p:cNvGrpSpPr/>
          <p:nvPr/>
        </p:nvGrpSpPr>
        <p:grpSpPr>
          <a:xfrm>
            <a:off x="1600200" y="1730520"/>
            <a:ext cx="6705720" cy="860400"/>
            <a:chOff x="1600200" y="1730520"/>
            <a:chExt cx="6705720" cy="860400"/>
          </a:xfrm>
        </p:grpSpPr>
        <p:sp>
          <p:nvSpPr>
            <p:cNvPr id="345" name="AutoShape 5"/>
            <p:cNvSpPr/>
            <p:nvPr/>
          </p:nvSpPr>
          <p:spPr>
            <a:xfrm>
              <a:off x="3562920" y="221364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AutoShape 23"/>
            <p:cNvSpPr/>
            <p:nvPr/>
          </p:nvSpPr>
          <p:spPr>
            <a:xfrm>
              <a:off x="1600200" y="1730520"/>
              <a:ext cx="6705720" cy="4791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23"/>
          <p:cNvSpPr/>
          <p:nvPr/>
        </p:nvSpPr>
        <p:spPr>
          <a:xfrm>
            <a:off x="2971800" y="1066680"/>
            <a:ext cx="3581280" cy="457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9" name="Curved Connector 9"/>
          <p:cNvCxnSpPr>
            <a:stCxn id="346" idx="3"/>
            <a:endCxn id="335" idx="0"/>
          </p:cNvCxnSpPr>
          <p:nvPr/>
        </p:nvCxnSpPr>
        <p:spPr>
          <a:xfrm flipH="1">
            <a:off x="5673240" y="1969560"/>
            <a:ext cx="2633040" cy="2453400"/>
          </a:xfrm>
          <a:prstGeom prst="curvedConnector5">
            <a:avLst>
              <a:gd name="adj1" fmla="val -8683"/>
              <a:gd name="adj2" fmla="val 27560"/>
              <a:gd name="adj3" fmla="val -8683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grpSp>
        <p:nvGrpSpPr>
          <p:cNvPr id="350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53" name="Group 46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4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5" name="Oval 48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56" name="AutoShape 130"/>
          <p:cNvCxnSpPr>
            <a:stCxn id="340" idx="0"/>
          </p:cNvCxnSpPr>
          <p:nvPr/>
        </p:nvCxnSpPr>
        <p:spPr>
          <a:xfrm flipV="1">
            <a:off x="3886200" y="327636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" name="Rectangle 1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1_Searching_and_Directly_Associateing_Parameters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Hz  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Hz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 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Hz 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Hz' of OWNER (2) to 12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Hz 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05T20:28:14Z</cp:lastPrinted>
  <dcterms:modified xsi:type="dcterms:W3CDTF">2017-12-16T22:24:22Z</dcterms:modified>
  <cp:revision>25</cp:revision>
  <dc:subject/>
  <dc:title>ex11_Searching_and_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24:21Z</vt:lpwstr>
  </property>
  <property fmtid="{D5CDD505-2E9C-101B-9397-08002B2CF9AE}" pid="5" name="TitusGUID">
    <vt:lpwstr>3cb855b7-0950-486a-ab41-5d5a221903ba</vt:lpwstr>
  </property>
</Properties>
</file>