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D6D5F-0ACD-4659-B665-6EBF9FF7B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947F2-0400-4D0B-BBEE-F1292F08E7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D9329-86AD-4FC0-84DF-C2B2200654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62F04-1A72-4106-8E35-C6B9C2D6DA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C7718-8BBD-49F1-8E36-70DAD14C2E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665FE-CDA4-40A2-9E51-CA0D4A8396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22354-1682-4393-BEE1-BE2B4E66AA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75BC1-255E-43D9-ABD5-50734CCB70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57EEA-6830-4607-ACBD-FE59CC94BE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5654A-6054-4AA2-A42D-1151B23F08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50D6E-602C-4A16-808D-B71940CF5A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9FDC0-A88A-43B5-81C9-6CF0D6528F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3EAD3-DA65-48A2-90C8-7445FD08BB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8505F-B5FB-4960-8D8B-FC3E39F9B8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30045-1116-4F3B-9B77-773CBC8C73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B12F1-7D2F-4664-A77E-4CADC1248F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C1EE6-D862-436F-80B7-CD290471A9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3CE17-64C9-4E00-A80A-4FBC4E70DB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110A1-0843-4033-9E51-5A02893594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565C0-7F37-4A61-89E9-A3CBF93F34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4A051-7122-46C0-846D-41C7974729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DB8CB-A3F5-4793-86F4-740299120C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3FCE1-E739-4723-B66D-CFA14A2D7F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EE569-9A94-4863-9A5D-6405EBD32D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C99F2-1B3C-4DCA-982C-49529838FB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405C1-FBF1-4A4A-8ADF-7D908765C8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CCD93-03C4-4D05-AC0E-24EC9FF51E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4FFE4-E44A-4E47-8AC5-AF4B9D920E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94AB8-B765-483C-805B-93EF3DFA56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4739B-6734-4D53-8BBC-2D6043EE3B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15152-9E3E-4CEA-AF6E-32ED6AD532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66C91-8695-41B0-AAF1-2927EE584A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C447E-EF58-41A3-BE02-691EA27EBE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71A19-EC80-47DD-BC86-2B3E69450A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22284-AA46-4F74-9457-E30FE827A0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14400-C108-4D03-A95D-97575D9E61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49DA-2AEC-49C6-986F-B437F8902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A8A17-ABB8-46CB-AF74-963C82DFD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71E72-A39A-4CE5-AE1A-B3DE29582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0F988-9FE6-494B-8E59-59973665B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943E3-6CE0-402D-90FF-81070618BC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C3DF0-8D8E-49BF-8A93-BB2FB577E9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75CDF-9389-401B-90CE-A75F7B58AC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045C8-9CEA-4967-9552-04E3841D16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85123-3D1C-4CD5-AA53-869470B190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5672B-D70A-4F50-BA65-7CD594A00A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987A5-1E28-4A07-A383-A2687983AC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B0C94-80A0-40DF-B71A-B7F933D10EF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D553A-83FC-417E-A4B3-BD5FC81CD71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6BC62-5BEB-434F-83FA-8D4DA06990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76D43-1146-4FAF-8C2B-A6DAAFD00D1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C2ECA-5E9B-4DB2-85C7-F5901E681C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47628-A175-4228-B176-0EDF66503C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49F77-D7D0-4A88-A3D2-740C0F2C2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C62F4-4B86-4C62-A31A-4EA4CD768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9578D-0E3D-4CD1-8195-5BB4ED6B39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9C661-A639-46AC-89EB-33EDA77CB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38F74-39B9-4CEB-B818-93390BCB65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D9353-C493-4543-A566-BC8AE07DF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902A-69D8-490D-B825-5ADFCF177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C672DF-372A-41A8-BC99-F9C211DB5D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D84F7-FF69-460E-A012-1C22AE214D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 Parameter Value Constraint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stemC CCI W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5_Inter_Parameter_Value_Constraint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In this example, the following is condition is verifi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 x &lt;= 2^n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where, 'x' : value of 'mem_block_size' (Memory Block size)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'n' : total number of address lines - 'curr_addr_line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addr_lines_mod: @0 s, [ADDR_LINES_REG C_TOR] : Default Address Lines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memory_block: @0 s, [MEMORY_BLOCK C_TOR] : Default Memory Size :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mem_size' to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memory_block.mem_size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addr_lines_mod.curr_addr_lines Parameter Value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The address lines cannot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[CFGR] : Modify the 'curr_addr_lines'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memory_block.mem_size  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fn] : The number of address lines can now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] : Changing the 'mem_size' to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memory_block.mem_size    Parameter Value :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er_Parameter_Value_Constrai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ablishing and maintaining inter-parameter value constraints (R1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orting inter-parameter value constraint vio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ynamic ability to reject values have been explained and contrasted to (static) lock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61"/>
          <p:cNvGrpSpPr/>
          <p:nvPr/>
        </p:nvGrpSpPr>
        <p:grpSpPr>
          <a:xfrm>
            <a:off x="2438280" y="2286000"/>
            <a:ext cx="4496040" cy="2209680"/>
            <a:chOff x="2438280" y="2286000"/>
            <a:chExt cx="4496040" cy="2209680"/>
          </a:xfrm>
        </p:grpSpPr>
        <p:sp>
          <p:nvSpPr>
            <p:cNvPr id="184" name="AutoShape 23"/>
            <p:cNvSpPr/>
            <p:nvPr/>
          </p:nvSpPr>
          <p:spPr>
            <a:xfrm>
              <a:off x="2438280" y="2286000"/>
              <a:ext cx="4496040" cy="161604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‘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’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&lt;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2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 –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where,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Memory Block Size, an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Number of address 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5"/>
            <p:cNvSpPr/>
            <p:nvPr/>
          </p:nvSpPr>
          <p:spPr>
            <a:xfrm>
              <a:off x="3352680" y="4076640"/>
              <a:ext cx="2489400" cy="41904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dition to be teste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Rectangle 6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1"/>
          <p:cNvGrpSpPr/>
          <p:nvPr/>
        </p:nvGrpSpPr>
        <p:grpSpPr>
          <a:xfrm>
            <a:off x="685800" y="2438280"/>
            <a:ext cx="7696080" cy="3700080"/>
            <a:chOff x="685800" y="2438280"/>
            <a:chExt cx="7696080" cy="3700080"/>
          </a:xfrm>
        </p:grpSpPr>
        <p:sp>
          <p:nvSpPr>
            <p:cNvPr id="189" name="AutoShape 23"/>
            <p:cNvSpPr/>
            <p:nvPr/>
          </p:nvSpPr>
          <p:spPr>
            <a:xfrm>
              <a:off x="685800" y="2438280"/>
              <a:ext cx="7696080" cy="34045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3352680" y="5925960"/>
              <a:ext cx="2489400" cy="212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57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rocess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1" name="Group 19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192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6" name="Group 20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197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1" name="Group 25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02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and store the handles for interrelated parameters of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odu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5"/>
          <p:cNvSpPr/>
          <p:nvPr/>
        </p:nvSpPr>
        <p:spPr>
          <a:xfrm>
            <a:off x="1219320" y="2743200"/>
            <a:ext cx="6705360" cy="9144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s a function that checks the condition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&lt;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2</a:t>
            </a:r>
            <a:r>
              <a:rPr b="1" lang="en-US" sz="1400" spc="-1" strike="noStrike" baseline="60000">
                <a:solidFill>
                  <a:srgbClr val="000000"/>
                </a:solidFill>
                <a:latin typeface="Bitstream Charter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-1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void TestCondition( int &lt;addr_lines&gt;, int &lt;memory_size&gt; )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generates log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whether or not the condition specifed is m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3"/>
          <p:cNvGrpSpPr/>
          <p:nvPr/>
        </p:nvGrpSpPr>
        <p:grpSpPr>
          <a:xfrm>
            <a:off x="685800" y="990720"/>
            <a:ext cx="7696080" cy="5147640"/>
            <a:chOff x="685800" y="990720"/>
            <a:chExt cx="7696080" cy="5147640"/>
          </a:xfrm>
        </p:grpSpPr>
        <p:grpSp>
          <p:nvGrpSpPr>
            <p:cNvPr id="208" name="Group 2"/>
            <p:cNvGrpSpPr/>
            <p:nvPr/>
          </p:nvGrpSpPr>
          <p:grpSpPr>
            <a:xfrm>
              <a:off x="685800" y="2362320"/>
              <a:ext cx="7696080" cy="3776040"/>
              <a:chOff x="685800" y="2362320"/>
              <a:chExt cx="7696080" cy="3776040"/>
            </a:xfrm>
          </p:grpSpPr>
          <p:sp>
            <p:nvSpPr>
              <p:cNvPr id="209" name="AutoShape 23"/>
              <p:cNvSpPr/>
              <p:nvPr/>
            </p:nvSpPr>
            <p:spPr>
              <a:xfrm>
                <a:off x="685800" y="2362320"/>
                <a:ext cx="7696080" cy="347436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0" name="AutoShape 5"/>
              <p:cNvSpPr/>
              <p:nvPr/>
            </p:nvSpPr>
            <p:spPr>
              <a:xfrm>
                <a:off x="3352680" y="5921640"/>
                <a:ext cx="2489400" cy="2167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5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1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12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3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214" name="Group 6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215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9" name="Group 11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220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4" name="AutoShape 1"/>
          <p:cNvSpPr/>
          <p:nvPr/>
        </p:nvSpPr>
        <p:spPr>
          <a:xfrm>
            <a:off x="228600" y="2057400"/>
            <a:ext cx="1676520" cy="23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61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nfrastructu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1219320" y="2687760"/>
            <a:ext cx="6705360" cy="11221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rocesso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OST_WRITE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allbacks on base parameters of the child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callbacks implemention, the current values of the cci-parameters are fed to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3"/>
          <p:cNvGrpSpPr/>
          <p:nvPr/>
        </p:nvGrpSpPr>
        <p:grpSpPr>
          <a:xfrm>
            <a:off x="685800" y="990720"/>
            <a:ext cx="7696080" cy="5148000"/>
            <a:chOff x="685800" y="990720"/>
            <a:chExt cx="7696080" cy="5148000"/>
          </a:xfrm>
        </p:grpSpPr>
        <p:grpSp>
          <p:nvGrpSpPr>
            <p:cNvPr id="229" name="Group 4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sp>
            <p:nvSpPr>
              <p:cNvPr id="230" name="AutoShape 23"/>
              <p:cNvSpPr/>
              <p:nvPr/>
            </p:nvSpPr>
            <p:spPr>
              <a:xfrm>
                <a:off x="685800" y="274320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1" name="AutoShape 5"/>
              <p:cNvSpPr/>
              <p:nvPr/>
            </p:nvSpPr>
            <p:spPr>
              <a:xfrm>
                <a:off x="3352680" y="594360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3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3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42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43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4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45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30"/>
          <p:cNvGrpSpPr/>
          <p:nvPr/>
        </p:nvGrpSpPr>
        <p:grpSpPr>
          <a:xfrm>
            <a:off x="685800" y="2776680"/>
            <a:ext cx="7696080" cy="3395520"/>
            <a:chOff x="685800" y="2776680"/>
            <a:chExt cx="7696080" cy="3395520"/>
          </a:xfrm>
        </p:grpSpPr>
        <p:grpSp>
          <p:nvGrpSpPr>
            <p:cNvPr id="249" name="Group 4"/>
            <p:cNvGrpSpPr/>
            <p:nvPr/>
          </p:nvGrpSpPr>
          <p:grpSpPr>
            <a:xfrm>
              <a:off x="685800" y="2776680"/>
              <a:ext cx="7696080" cy="3395520"/>
              <a:chOff x="685800" y="2776680"/>
              <a:chExt cx="7696080" cy="3395520"/>
            </a:xfrm>
          </p:grpSpPr>
          <p:sp>
            <p:nvSpPr>
              <p:cNvPr id="250" name="AutoShape 23"/>
              <p:cNvSpPr/>
              <p:nvPr/>
            </p:nvSpPr>
            <p:spPr>
              <a:xfrm>
                <a:off x="685800" y="277668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1" name="AutoShape 5"/>
              <p:cNvSpPr/>
              <p:nvPr/>
            </p:nvSpPr>
            <p:spPr>
              <a:xfrm>
                <a:off x="3352680" y="597708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5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5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62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NOT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3" name="Group 21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64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5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6" name="Oval 49"/>
          <p:cNvSpPr/>
          <p:nvPr/>
        </p:nvSpPr>
        <p:spPr>
          <a:xfrm>
            <a:off x="6375240" y="1276200"/>
            <a:ext cx="457200" cy="381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7" name="AutoShape 28"/>
          <p:cNvCxnSpPr>
            <a:stCxn id="266" idx="4"/>
          </p:cNvCxnSpPr>
          <p:nvPr/>
        </p:nvCxnSpPr>
        <p:spPr>
          <a:xfrm flipH="1" rot="16200000">
            <a:off x="5202720" y="3066480"/>
            <a:ext cx="3182040" cy="38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68" name="Group 34"/>
          <p:cNvGrpSpPr/>
          <p:nvPr/>
        </p:nvGrpSpPr>
        <p:grpSpPr>
          <a:xfrm>
            <a:off x="5791320" y="4876920"/>
            <a:ext cx="1828800" cy="380880"/>
            <a:chOff x="5791320" y="4876920"/>
            <a:chExt cx="1828800" cy="380880"/>
          </a:xfrm>
        </p:grpSpPr>
        <p:sp>
          <p:nvSpPr>
            <p:cNvPr id="269" name="AutoShape 5"/>
            <p:cNvSpPr/>
            <p:nvPr/>
          </p:nvSpPr>
          <p:spPr>
            <a:xfrm>
              <a:off x="5791320" y="491508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0" name="Oval 49"/>
            <p:cNvSpPr/>
            <p:nvPr/>
          </p:nvSpPr>
          <p:spPr>
            <a:xfrm>
              <a:off x="5943600" y="487692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71" name="Rectangle 3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38"/>
          <p:cNvGrpSpPr/>
          <p:nvPr/>
        </p:nvGrpSpPr>
        <p:grpSpPr>
          <a:xfrm>
            <a:off x="685800" y="2743200"/>
            <a:ext cx="7696080" cy="3395520"/>
            <a:chOff x="685800" y="2743200"/>
            <a:chExt cx="7696080" cy="3395520"/>
          </a:xfrm>
        </p:grpSpPr>
        <p:grpSp>
          <p:nvGrpSpPr>
            <p:cNvPr id="274" name="Group 3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grpSp>
            <p:nvGrpSpPr>
              <p:cNvPr id="275" name="Group 4"/>
              <p:cNvGrpSpPr/>
              <p:nvPr/>
            </p:nvGrpSpPr>
            <p:grpSpPr>
              <a:xfrm>
                <a:off x="685800" y="2743200"/>
                <a:ext cx="7696080" cy="3395520"/>
                <a:chOff x="685800" y="2743200"/>
                <a:chExt cx="7696080" cy="3395520"/>
              </a:xfrm>
            </p:grpSpPr>
            <p:sp>
              <p:nvSpPr>
                <p:cNvPr id="276" name="AutoShape 23"/>
                <p:cNvSpPr/>
                <p:nvPr/>
              </p:nvSpPr>
              <p:spPr>
                <a:xfrm>
                  <a:off x="685800" y="274320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77" name="AutoShape 5"/>
                <p:cNvSpPr/>
                <p:nvPr/>
              </p:nvSpPr>
              <p:spPr>
                <a:xfrm>
                  <a:off x="3352680" y="594360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8" name="Group 7"/>
              <p:cNvGrpSpPr/>
              <p:nvPr/>
            </p:nvGrpSpPr>
            <p:grpSpPr>
              <a:xfrm>
                <a:off x="914400" y="4119480"/>
                <a:ext cx="3200400" cy="1638360"/>
                <a:chOff x="914400" y="4119480"/>
                <a:chExt cx="3200400" cy="1638360"/>
              </a:xfrm>
            </p:grpSpPr>
            <p:sp>
              <p:nvSpPr>
                <p:cNvPr id="279" name="AutoShape 5"/>
                <p:cNvSpPr/>
                <p:nvPr/>
              </p:nvSpPr>
              <p:spPr>
                <a:xfrm>
                  <a:off x="1244520" y="549108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0" name="AutoShape 5"/>
                <p:cNvSpPr/>
                <p:nvPr/>
              </p:nvSpPr>
              <p:spPr>
                <a:xfrm>
                  <a:off x="914400" y="411948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1" name="AutoShape 5"/>
                <p:cNvSpPr/>
                <p:nvPr/>
              </p:nvSpPr>
              <p:spPr>
                <a:xfrm>
                  <a:off x="990360" y="434808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2" name="AutoShape 5"/>
                <p:cNvSpPr/>
                <p:nvPr/>
              </p:nvSpPr>
              <p:spPr>
                <a:xfrm>
                  <a:off x="1600200" y="484344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3" name="Group 12"/>
              <p:cNvGrpSpPr/>
              <p:nvPr/>
            </p:nvGrpSpPr>
            <p:grpSpPr>
              <a:xfrm>
                <a:off x="4952880" y="4157640"/>
                <a:ext cx="3200400" cy="1638360"/>
                <a:chOff x="4952880" y="4157640"/>
                <a:chExt cx="3200400" cy="1638360"/>
              </a:xfrm>
            </p:grpSpPr>
            <p:sp>
              <p:nvSpPr>
                <p:cNvPr id="284" name="AutoShape 5"/>
                <p:cNvSpPr/>
                <p:nvPr/>
              </p:nvSpPr>
              <p:spPr>
                <a:xfrm>
                  <a:off x="5334120" y="5529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5" name="AutoShape 5"/>
                <p:cNvSpPr/>
                <p:nvPr/>
              </p:nvSpPr>
              <p:spPr>
                <a:xfrm>
                  <a:off x="4952880" y="4157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6" name="AutoShape 5"/>
                <p:cNvSpPr/>
                <p:nvPr/>
              </p:nvSpPr>
              <p:spPr>
                <a:xfrm>
                  <a:off x="5105520" y="4386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7" name="AutoShape 5"/>
                <p:cNvSpPr/>
                <p:nvPr/>
              </p:nvSpPr>
              <p:spPr>
                <a:xfrm>
                  <a:off x="5715000" y="4881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88" name="AutoShape 5"/>
            <p:cNvSpPr/>
            <p:nvPr/>
          </p:nvSpPr>
          <p:spPr>
            <a:xfrm>
              <a:off x="5715000" y="49528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89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 NOW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0" name="Group 18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91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5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urr_addr_line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3" name="Oval 49"/>
          <p:cNvSpPr/>
          <p:nvPr/>
        </p:nvSpPr>
        <p:spPr>
          <a:xfrm>
            <a:off x="6629400" y="128268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94" name="AutoShape 22"/>
          <p:cNvCxnSpPr>
            <a:stCxn id="293" idx="4"/>
          </p:cNvCxnSpPr>
          <p:nvPr/>
        </p:nvCxnSpPr>
        <p:spPr>
          <a:xfrm rot="5400000">
            <a:off x="3247560" y="1168200"/>
            <a:ext cx="3105720" cy="4115520"/>
          </a:xfrm>
          <a:prstGeom prst="curvedConnector5">
            <a:avLst>
              <a:gd name="adj1" fmla="val 50000"/>
              <a:gd name="adj2" fmla="val 49995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95" name="Group 29"/>
          <p:cNvGrpSpPr/>
          <p:nvPr/>
        </p:nvGrpSpPr>
        <p:grpSpPr>
          <a:xfrm>
            <a:off x="1600200" y="4800600"/>
            <a:ext cx="1828800" cy="380880"/>
            <a:chOff x="1600200" y="4800600"/>
            <a:chExt cx="1828800" cy="380880"/>
          </a:xfrm>
        </p:grpSpPr>
        <p:sp>
          <p:nvSpPr>
            <p:cNvPr id="296" name="AutoShape 5"/>
            <p:cNvSpPr/>
            <p:nvPr/>
          </p:nvSpPr>
          <p:spPr>
            <a:xfrm>
              <a:off x="160020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7" name="Oval 49"/>
            <p:cNvSpPr/>
            <p:nvPr/>
          </p:nvSpPr>
          <p:spPr>
            <a:xfrm>
              <a:off x="1752480" y="4800600"/>
              <a:ext cx="152424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8" name="Rectangle 4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685800" y="2700360"/>
            <a:ext cx="7696080" cy="3395520"/>
            <a:chOff x="685800" y="2700360"/>
            <a:chExt cx="7696080" cy="3395520"/>
          </a:xfrm>
        </p:grpSpPr>
        <p:grpSp>
          <p:nvGrpSpPr>
            <p:cNvPr id="301" name="Group 3"/>
            <p:cNvGrpSpPr/>
            <p:nvPr/>
          </p:nvGrpSpPr>
          <p:grpSpPr>
            <a:xfrm>
              <a:off x="685800" y="2700360"/>
              <a:ext cx="7696080" cy="3395520"/>
              <a:chOff x="685800" y="2700360"/>
              <a:chExt cx="7696080" cy="3395520"/>
            </a:xfrm>
          </p:grpSpPr>
          <p:grpSp>
            <p:nvGrpSpPr>
              <p:cNvPr id="302" name="Group 4"/>
              <p:cNvGrpSpPr/>
              <p:nvPr/>
            </p:nvGrpSpPr>
            <p:grpSpPr>
              <a:xfrm>
                <a:off x="685800" y="2700360"/>
                <a:ext cx="7696080" cy="3395520"/>
                <a:chOff x="685800" y="2700360"/>
                <a:chExt cx="7696080" cy="3395520"/>
              </a:xfrm>
            </p:grpSpPr>
            <p:sp>
              <p:nvSpPr>
                <p:cNvPr id="303" name="AutoShape 23"/>
                <p:cNvSpPr/>
                <p:nvPr/>
              </p:nvSpPr>
              <p:spPr>
                <a:xfrm>
                  <a:off x="685800" y="270036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4" name="AutoShape 5"/>
                <p:cNvSpPr/>
                <p:nvPr/>
              </p:nvSpPr>
              <p:spPr>
                <a:xfrm>
                  <a:off x="3352680" y="590076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05" name="Group 7"/>
              <p:cNvGrpSpPr/>
              <p:nvPr/>
            </p:nvGrpSpPr>
            <p:grpSpPr>
              <a:xfrm>
                <a:off x="914400" y="4076640"/>
                <a:ext cx="3200400" cy="1638360"/>
                <a:chOff x="914400" y="4076640"/>
                <a:chExt cx="3200400" cy="1638360"/>
              </a:xfrm>
            </p:grpSpPr>
            <p:sp>
              <p:nvSpPr>
                <p:cNvPr id="306" name="AutoShape 5"/>
                <p:cNvSpPr/>
                <p:nvPr/>
              </p:nvSpPr>
              <p:spPr>
                <a:xfrm>
                  <a:off x="1244520" y="5448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7" name="AutoShape 5"/>
                <p:cNvSpPr/>
                <p:nvPr/>
              </p:nvSpPr>
              <p:spPr>
                <a:xfrm>
                  <a:off x="914400" y="4076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990360" y="4305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9" name="AutoShape 5"/>
                <p:cNvSpPr/>
                <p:nvPr/>
              </p:nvSpPr>
              <p:spPr>
                <a:xfrm>
                  <a:off x="1600200" y="4800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0" name="Group 12"/>
              <p:cNvGrpSpPr/>
              <p:nvPr/>
            </p:nvGrpSpPr>
            <p:grpSpPr>
              <a:xfrm>
                <a:off x="4952880" y="4114800"/>
                <a:ext cx="3200400" cy="1638360"/>
                <a:chOff x="4952880" y="4114800"/>
                <a:chExt cx="3200400" cy="1638360"/>
              </a:xfrm>
            </p:grpSpPr>
            <p:sp>
              <p:nvSpPr>
                <p:cNvPr id="311" name="AutoShape 5"/>
                <p:cNvSpPr/>
                <p:nvPr/>
              </p:nvSpPr>
              <p:spPr>
                <a:xfrm>
                  <a:off x="5334120" y="548640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2" name="AutoShape 5"/>
                <p:cNvSpPr/>
                <p:nvPr/>
              </p:nvSpPr>
              <p:spPr>
                <a:xfrm>
                  <a:off x="4952880" y="411480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3" name="AutoShape 5"/>
                <p:cNvSpPr/>
                <p:nvPr/>
              </p:nvSpPr>
              <p:spPr>
                <a:xfrm>
                  <a:off x="5105520" y="434340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4" name="AutoShape 5"/>
                <p:cNvSpPr/>
                <p:nvPr/>
              </p:nvSpPr>
              <p:spPr>
                <a:xfrm>
                  <a:off x="5715000" y="483876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15" name="AutoShape 5"/>
            <p:cNvSpPr/>
            <p:nvPr/>
          </p:nvSpPr>
          <p:spPr>
            <a:xfrm>
              <a:off x="5715000" y="483840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17" name="Group 20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318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1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0" name="Oval 49"/>
          <p:cNvSpPr/>
          <p:nvPr/>
        </p:nvSpPr>
        <p:spPr>
          <a:xfrm>
            <a:off x="6375240" y="128916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21" name="AutoShape 24"/>
          <p:cNvCxnSpPr>
            <a:stCxn id="320" idx="4"/>
          </p:cNvCxnSpPr>
          <p:nvPr/>
        </p:nvCxnSpPr>
        <p:spPr>
          <a:xfrm flipH="1" rot="16200000">
            <a:off x="5202720" y="3079440"/>
            <a:ext cx="3106080" cy="3056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322" name="Group 28"/>
          <p:cNvGrpSpPr/>
          <p:nvPr/>
        </p:nvGrpSpPr>
        <p:grpSpPr>
          <a:xfrm>
            <a:off x="5791320" y="4800600"/>
            <a:ext cx="1828800" cy="380880"/>
            <a:chOff x="5791320" y="4800600"/>
            <a:chExt cx="1828800" cy="380880"/>
          </a:xfrm>
        </p:grpSpPr>
        <p:sp>
          <p:nvSpPr>
            <p:cNvPr id="323" name="AutoShape 5"/>
            <p:cNvSpPr/>
            <p:nvPr/>
          </p:nvSpPr>
          <p:spPr>
            <a:xfrm>
              <a:off x="579132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4" name="Oval 49"/>
            <p:cNvSpPr/>
            <p:nvPr/>
          </p:nvSpPr>
          <p:spPr>
            <a:xfrm>
              <a:off x="5943960" y="480060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5" name="AutoShape 5"/>
          <p:cNvSpPr/>
          <p:nvPr/>
        </p:nvSpPr>
        <p:spPr>
          <a:xfrm>
            <a:off x="1600200" y="4724280"/>
            <a:ext cx="1828800" cy="4572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Old Value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6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11T15:16:23Z</cp:lastPrinted>
  <dcterms:modified xsi:type="dcterms:W3CDTF">2017-12-17T00:07:00Z</dcterms:modified>
  <cp:revision>16</cp:revision>
  <dc:subject/>
  <dc:title>ex15_Inter_Parameter_Value_Constrai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7:00Z</vt:lpwstr>
  </property>
  <property fmtid="{D5CDD505-2E9C-101B-9397-08002B2CF9AE}" pid="5" name="TitusGUID">
    <vt:lpwstr>a6488d3d-f883-4cf3-b3a0-b041f9371bfd</vt:lpwstr>
  </property>
</Properties>
</file>