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8520" cy="33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A62A1-3687-4D4A-BDBF-73996B910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48B57-6E87-4D5F-B5D7-46CCA6AAA9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6BF3C-8FB4-4F1F-B007-BFF6657302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D34BC-6790-4752-920C-C103814D46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76943-C660-4BD0-8BD9-B6A270B2EE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52EB6-FF79-4751-AED4-4A8B20FCC9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4A476-570F-4117-8F44-EB4E7C3290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62938-7FC4-494B-B6E2-D216662712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CB147-CF79-4D63-9A4C-5005319FD5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4FC6B-E124-4F65-A05D-0FB841BF74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CDE2F-008C-4991-8DC0-D82E0E9199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34F95-C25C-4278-ACDD-5D6339E067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36263-D4EA-4C3E-AA17-D1157E266F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3131E-AD87-4972-8534-BC8F0A0A73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7CECC-2772-413C-A214-AE7D28C63D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65790-2A71-448B-B82E-BD337A0676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E2A44-0995-456B-9669-ABD1CB9E92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4A795-1B55-4118-9AF4-BD895FC3D8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F6EC2-B218-498F-88B2-09AD0D2C00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74D0B-EBD1-4A57-A2C3-C292D6A6CC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8D8C3-C662-4AA7-B969-BDD2C2EFCF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D8E77-6FB5-40DE-AC29-DA14E32464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FBD30-44B3-452B-9105-486200D774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08C9A-5755-4F3B-BCB2-CFA9883924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F0328-6058-46AF-A831-D93F1B1B7F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352E7-9AFB-4709-A923-F3F0FBC1B5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98EE9-281F-423D-B85A-A5935A5697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E8771-632A-41CA-A299-7810E8FBA9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F45EC-AFCD-423A-A8F7-E910564E5F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D893-C431-42F1-BA05-344195495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7426-49BC-4E05-9ED5-72D95EEE9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026C-0DBF-4BB4-8FD4-E9E2B3F37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7764-30FF-4994-90C5-DB687F3D1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3705-5173-4DEE-B069-0AF2BCB4E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33A4-0310-4D17-93FA-F42306404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4472D-3892-4DD1-B22B-9A27A71D1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CD3F-AD04-4727-92BF-52A3F2463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8436-E82D-47C8-BFB4-A86A7C0B3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A421-FE09-4F11-847B-1C35C33FC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693C-27FC-4E2F-8411-F8DF50BC5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9E15-2027-4D47-9396-A13CFDB18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A922A-F5C9-4F92-A0E0-AC75A656ED53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r Defined Dat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rish Verma, P V S Phane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433BC-F993-46E9-BA48-3BAFCEFB726F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533412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96252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505320" y="106668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3962520" y="2362320"/>
            <a:ext cx="495288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038480" y="3200400"/>
            <a:ext cx="449604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Documentation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676520" y="273204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5088" y="3600"/>
                </a:lnTo>
                <a:lnTo>
                  <a:pt x="-5088" y="-3350"/>
                </a:lnTo>
                <a:lnTo>
                  <a:pt x="25667" y="-4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505320" y="3962520"/>
            <a:ext cx="914400" cy="3045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3429000" y="4343400"/>
            <a:ext cx="563868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set_string "{\"s_address\":1024,\"d_address\":1280,\"index\":3}");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set_cci_value(cci::cci_value::from_json(set_string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533520" y="5041800"/>
            <a:ext cx="2819160" cy="6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68"/>
                </a:moveTo>
                <a:lnTo>
                  <a:pt x="-2104" y="3668"/>
                </a:lnTo>
                <a:lnTo>
                  <a:pt x="-2104" y="-3617"/>
                </a:lnTo>
                <a:lnTo>
                  <a:pt x="22962" y="-4687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FCDC1-63B6-4161-B8D9-7A225E80C0B2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48640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276720" y="114300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8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88620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886200" y="2286000"/>
            <a:ext cx="510552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1024,"d_address":1280,"index":3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676520" y="266688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5667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16_User_Defined_Data_Typ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preset value 's_address:256,d_address:512,index:0' to UD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{"s_address":512,"d_address":768,"index":1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Value' : {"s_address":256,"d_address":512,"index":0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 - '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Description 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New Value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's_address:768,d_address:1024,index:2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[OWNER -&gt; Retrieve] : UDT Value 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@ 4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value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desc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Value - 's_address:1024,d_address:1280,index: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@ 8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value: {"s_address":1024,"d_address":1280,"index":3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2C249-0F27-49D6-B831-E3F208C7E473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ing support for user-defined data types, including comple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ow access using both JSON values and cci_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62C74-CC3F-43BE-8210-269076C247E6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019920" y="2209680"/>
            <a:ext cx="213336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2365"/>
              <a:gd name="adj5" fmla="val -128597"/>
              <a:gd name="adj6" fmla="val -6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A simple C++ class, not an SC_MODUL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895480" y="2270160"/>
            <a:ext cx="2057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703"/>
              <a:gd name="adj5" fmla="val -36365"/>
              <a:gd name="adj6" fmla="val -12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152280" y="3738600"/>
            <a:ext cx="5257800" cy="7621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please go through the            presentation for ex#8 or ex#11 and ex#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5638680" y="3390840"/>
            <a:ext cx="304812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0" y="2234"/>
                </a:moveTo>
                <a:lnTo>
                  <a:pt x="22286" y="2234"/>
                </a:lnTo>
                <a:lnTo>
                  <a:pt x="22286" y="-5617"/>
                </a:lnTo>
                <a:lnTo>
                  <a:pt x="18326" y="-134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different types of callbacks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(pre_read, pre_write &amp; post_write)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on the parameters of interest to monitor their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152280" y="5408640"/>
            <a:ext cx="44197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b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displayed by the shape on th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518148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3600"/>
                </a:moveTo>
                <a:lnTo>
                  <a:pt x="-4230" y="3600"/>
                </a:lnTo>
                <a:lnTo>
                  <a:pt x="-4230" y="100"/>
                </a:lnTo>
                <a:lnTo>
                  <a:pt x="3630" y="-7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152280" y="2514600"/>
            <a:ext cx="2057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2115"/>
              <a:gd name="adj5" fmla="val -89064"/>
              <a:gd name="adj6" fmla="val 11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_datatype.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152280" y="4619520"/>
            <a:ext cx="4114800" cy="533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ev.originator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98310-1E9C-4E9B-8AE9-17609041B9C7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2200" y="985680"/>
            <a:ext cx="56800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tep#1</a:t>
            </a:r>
            <a:r>
              <a:rPr b="1" lang="en-US" sz="20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2000" spc="-1" strike="noStrike">
                <a:solidFill>
                  <a:srgbClr val="000000"/>
                </a:solidFill>
                <a:latin typeface="Bitstream Charter"/>
              </a:rPr>
              <a:t>Defining a User-Defined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07880" y="1895400"/>
            <a:ext cx="7696440" cy="2971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clare a C++ class/structure for the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(see the following sl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reate a default constructor for the user-defined data typ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Also provide an overloaded constructor that is useful to assign the user-defined values in the desired m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Implement cci_value_converter&lt;user-defined-type&gt; with pack and unpack functions (not shown – see example co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load the insertion (&lt;&lt;) operator to provide convenience in repor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1D8D0-28FF-4D9C-8FE0-CB71A5FD380C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80880" y="685800"/>
            <a:ext cx="7543800" cy="3808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frastructure to be created :  Creating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5800" y="1143000"/>
            <a:ext cx="3886200" cy="4952880"/>
          </a:xfrm>
          <a:custGeom>
            <a:avLst/>
            <a:gdLst>
              <a:gd name="textAreaLeft" fmla="*/ 3600 w 3886200"/>
              <a:gd name="textAreaRight" fmla="*/ 3882600 w 3886200"/>
              <a:gd name="textAreaTop" fmla="*/ 3600 h 4952880"/>
              <a:gd name="textAreaBottom" fmla="*/ 4949280 h 4952880"/>
            </a:gdLst>
            <a:ahLst/>
            <a:rect l="textAreaLeft" t="textAreaTop" r="textAreaRight" b="textAreaBottom"/>
            <a:pathLst>
              <a:path w="21600" h="27528">
                <a:moveTo>
                  <a:pt x="75" y="0"/>
                </a:moveTo>
                <a:arcTo wR="75" hR="75" stAng="16200000" swAng="-5400000"/>
                <a:lnTo>
                  <a:pt x="0" y="27453"/>
                </a:lnTo>
                <a:arcTo wR="75" hR="75" stAng="10800000" swAng="-5400000"/>
                <a:lnTo>
                  <a:pt x="21525" y="27528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uct route_table_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Default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Sourc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//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Overloaded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int saddr, int daddr, int 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s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d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s_address;     // Slav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d_address;    // 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index;           // 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;// End of STRUC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7B4A7-AD3F-47D6-8E4F-B4ECEB3D885C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47680" y="876240"/>
            <a:ext cx="50292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Overloading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ser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 operator of C+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07880" y="1600200"/>
            <a:ext cx="6907320" cy="44197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td::ostream&amp; operator &lt;&lt;(std::ostream&amp; os, const route_table_ut&amp; u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ci::cci_value udv(ud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eturn os &lt;&lt; udv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8B0B6-D241-4814-871A-24B51EF3129A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63720" y="49100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5611680" y="4373640"/>
            <a:ext cx="3303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2960" y="448164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287440" y="3941640"/>
            <a:ext cx="45720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Before the instantiation of the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82680" y="1905120"/>
            <a:ext cx="5024520" cy="10350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yOriginato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824120" y="1219320"/>
            <a:ext cx="5489640" cy="563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yOriginator(“sc_main_originato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366920" y="3048120"/>
            <a:ext cx="6786360" cy="914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preset value using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et_preset_value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I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init_str("{\"s_address\":256,\"d_address\":512,\"index\":0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globalBroker.set_preset_cci_value(“param_owner.User_data_type_param”, cci::cci_value::from_json(init_str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335720" y="491184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362320" y="4952880"/>
            <a:ext cx="4662360" cy="103032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obj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CA6E8-51EA-42E3-9F8E-C14654896E3E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"/>
          <p:cNvSpPr/>
          <p:nvPr/>
        </p:nvSpPr>
        <p:spPr>
          <a:xfrm>
            <a:off x="323208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498168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38096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04920" y="1550880"/>
            <a:ext cx="510516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ame and assign defaul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("User_data_type_param",route_table_ut(0x200,0x300,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343400" y="2313000"/>
            <a:ext cx="1511280" cy="22860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04920" y="345600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_default_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faul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512,"d_address":768,"index":1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04920" y="5132520"/>
            <a:ext cx="5029200" cy="68580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Set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onst std::string init_desc = “This is user-defined data type”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udt_param.set_description(init_desc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701352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5504040" y="4827600"/>
            <a:ext cx="3563640" cy="7621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Declare handle for the parame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udt_param_handl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9600" y="1246320"/>
            <a:ext cx="3881520" cy="2286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i::cci_param&lt;route_table_ut&gt; udt_para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04920" y="2693880"/>
            <a:ext cx="449568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 nam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Nam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304920" y="429408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256,"d_address":512,"index":0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B213C-9038-4DF7-BC52-2B6CABB47E83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323208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525780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38096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01352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380880" y="1527120"/>
            <a:ext cx="4496040" cy="85428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Documentation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380880" y="2533680"/>
            <a:ext cx="617220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set_cci_value("{\"s_address\":768,\"d_address\":1024,\"index\":2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4800600" y="337176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4850"/>
                </a:lnTo>
                <a:lnTo>
                  <a:pt x="12077" y="-85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1162080"/>
            <a:ext cx="181620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3962520" y="4362480"/>
            <a:ext cx="181584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380880" y="4803840"/>
            <a:ext cx="4800600" cy="8539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the presen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5562720" y="4514760"/>
            <a:ext cx="22096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5" y="3600"/>
                </a:moveTo>
                <a:lnTo>
                  <a:pt x="31934" y="3600"/>
                </a:lnTo>
                <a:lnTo>
                  <a:pt x="31934" y="25650"/>
                </a:lnTo>
                <a:lnTo>
                  <a:pt x="-33992" y="2579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00:40:22Z</dcterms:modified>
  <cp:revision>66</cp:revision>
  <dc:subject/>
  <dc:title>ex16_User_Defined_Data_Ty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40:21Z</vt:lpwstr>
  </property>
  <property fmtid="{D5CDD505-2E9C-101B-9397-08002B2CF9AE}" pid="5" name="TitusGUID">
    <vt:lpwstr>fc8b835a-1d3c-4a78-8f66-3d525973a8b0</vt:lpwstr>
  </property>
</Properties>
</file>