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5A153-6578-4722-A272-9DEB9E1F3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02692-04B7-42C2-B0E1-2F8833B186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ED0A5-1347-44D0-938C-A033A237DE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14D7F-0B64-4751-BDE3-EA47EE6B14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B9F39-EA86-488E-B653-631B8100DE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175FC-07CB-44F7-A91A-C3A624213B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2FA8F-1073-4346-B586-43E01B1F4C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2FC72-1818-4008-AEF2-99A7DCC7A0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CD5E6-3318-4509-B690-6C41CF4F88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CE404-9EB9-4511-9DB8-B959361A97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A5C28-D0CB-4BD6-A890-4A0E0F6784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B2861-0F74-4368-826F-A5C961964F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61499-DC75-444F-BA64-A8AFB45B19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102E4-F083-42D5-951E-3DB66D7042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15A94-4D61-4FD7-8335-899DDC5CB5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08728-5756-4B1D-8EE4-69919D42A1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B66AA-F5BE-442D-B9B3-D83F43F978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B83B5-AB9F-4227-9D66-153EC3F40A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C6FFB-2D42-4447-9933-710E90EEB5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AF6BB-D56E-4FCA-AE02-19B718E833D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D8522-D57D-412C-8296-E76B9B7DEDB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ED632-2D48-4408-B255-8B8589A8753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9724B-AC2C-40B2-8D41-E8A9A50A126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4668E-1320-4576-9355-0E2F11E8C8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429F2-2925-4CA2-B527-5639C23529C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14E60-7983-47AE-8FA2-C2134ED4214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19B3A-E8FB-4213-8BC1-80ADDE2562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5CB72-4719-4814-B899-FF14B1B5EAD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8E36D-C878-4A3E-A216-6062FB4DBB6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1B1D2-4F27-4D7A-A2CC-CA172A1705F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2632C-20E2-4906-847D-D99D3A7C141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CD2F2-2714-48CC-9681-578B724193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A8B9B-CCF5-44ED-B9F8-BE85A71F0A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2E7F2-AA89-4EE9-9701-A930DDB23E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C2051-5A5B-468C-B8B3-5606709AD6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F840E-6DE4-468B-8508-AF13580B8D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6B4F0-73E4-4A13-A4A9-3FA4D57886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8E19B-9D71-46BB-94FC-56F6064099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1693C-C073-44D6-8F93-20518C7EF4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DC90EDD5-04F9-4254-83A6-6D8B43DEE4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1"/>
          <p:cNvSpPr/>
          <p:nvPr/>
        </p:nvSpPr>
        <p:spPr>
          <a:xfrm>
            <a:off x="380880" y="3067200"/>
            <a:ext cx="8331480" cy="6397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Hierarchical Value Update Examp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3276720" y="4572000"/>
            <a:ext cx="38862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Lei Lian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Ericsson AB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December, 201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2895480" y="3809880"/>
            <a:ext cx="3591000" cy="5065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 fontScale="9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1"/>
          <p:cNvSpPr/>
          <p:nvPr/>
        </p:nvSpPr>
        <p:spPr>
          <a:xfrm>
            <a:off x="236520" y="220680"/>
            <a:ext cx="86868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Value Upd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pdate all parameters which matches to a given name pattern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"/>
          <p:cNvSpPr/>
          <p:nvPr/>
        </p:nvSpPr>
        <p:spPr>
          <a:xfrm>
            <a:off x="838080" y="1143000"/>
            <a:ext cx="762012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c_ma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1447920" y="1752480"/>
            <a:ext cx="198108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m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5943600" y="1752480"/>
            <a:ext cx="190512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fg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rget of this module is to update all parameters whose name matches the pattern “log_level” and in this example they ar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sub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1752480" y="3048120"/>
            <a:ext cx="1600200" cy="22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b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Folded Corner 41"/>
          <p:cNvSpPr/>
          <p:nvPr/>
        </p:nvSpPr>
        <p:spPr>
          <a:xfrm>
            <a:off x="1917720" y="21718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Folded Corner 41"/>
          <p:cNvSpPr/>
          <p:nvPr/>
        </p:nvSpPr>
        <p:spPr>
          <a:xfrm>
            <a:off x="1917720" y="24382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Folded Corner 41"/>
          <p:cNvSpPr/>
          <p:nvPr/>
        </p:nvSpPr>
        <p:spPr>
          <a:xfrm>
            <a:off x="1917720" y="270504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ight Brace 5"/>
          <p:cNvSpPr/>
          <p:nvPr/>
        </p:nvSpPr>
        <p:spPr>
          <a:xfrm>
            <a:off x="3365640" y="2192400"/>
            <a:ext cx="291960" cy="723960"/>
          </a:xfrm>
          <a:custGeom>
            <a:avLst/>
            <a:gdLst>
              <a:gd name="textAreaLeft" fmla="*/ 0 w 291960"/>
              <a:gd name="textAreaRight" fmla="*/ 105480 w 29196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3563640" y="241452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im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Folded Corner 41"/>
          <p:cNvSpPr/>
          <p:nvPr/>
        </p:nvSpPr>
        <p:spPr>
          <a:xfrm>
            <a:off x="1854360" y="444168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Folded Corner 41"/>
          <p:cNvSpPr/>
          <p:nvPr/>
        </p:nvSpPr>
        <p:spPr>
          <a:xfrm>
            <a:off x="1854360" y="470844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Folded Corner 41"/>
          <p:cNvSpPr/>
          <p:nvPr/>
        </p:nvSpPr>
        <p:spPr>
          <a:xfrm>
            <a:off x="1854360" y="497520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ight Brace 33"/>
          <p:cNvSpPr/>
          <p:nvPr/>
        </p:nvSpPr>
        <p:spPr>
          <a:xfrm>
            <a:off x="3301920" y="4462560"/>
            <a:ext cx="292320" cy="723960"/>
          </a:xfrm>
          <a:custGeom>
            <a:avLst/>
            <a:gdLst>
              <a:gd name="textAreaLeft" fmla="*/ 0 w 292320"/>
              <a:gd name="textAreaRight" fmla="*/ 105480 w 29232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Box 34"/>
          <p:cNvSpPr/>
          <p:nvPr/>
        </p:nvSpPr>
        <p:spPr>
          <a:xfrm>
            <a:off x="3498840" y="4684680"/>
            <a:ext cx="189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ub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3" name="Straight Arrow Connector 16"/>
          <p:cNvCxnSpPr>
            <a:stCxn id="201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4" name="Straight Arrow Connector 17"/>
          <p:cNvCxnSpPr>
            <a:stCxn id="202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5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Folded Corner 43"/>
          <p:cNvSpPr/>
          <p:nvPr/>
        </p:nvSpPr>
        <p:spPr>
          <a:xfrm>
            <a:off x="5456160" y="2112840"/>
            <a:ext cx="2468520" cy="3049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m_broker.get_param_handles(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Speech Bubble: Rectangle with Corners Rounded 10"/>
          <p:cNvSpPr/>
          <p:nvPr/>
        </p:nvSpPr>
        <p:spPr>
          <a:xfrm>
            <a:off x="6527880" y="2816280"/>
            <a:ext cx="2539800" cy="145080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n printed the value for all parameters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Straight Arrow Connector 16"/>
          <p:cNvCxnSpPr>
            <a:stCxn id="209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Straight Arrow Connector 17"/>
          <p:cNvCxnSpPr>
            <a:stCxn id="210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3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Folded Corner 43"/>
          <p:cNvSpPr/>
          <p:nvPr/>
        </p:nvSpPr>
        <p:spPr>
          <a:xfrm>
            <a:off x="5105520" y="2112840"/>
            <a:ext cx="3276360" cy="478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ci::cci_param_filter_iterator log_level_pfi =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broker.get_param_handles(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red_it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Speech Bubble: Rectangle with Corners Rounded 10"/>
          <p:cNvSpPr/>
          <p:nvPr/>
        </p:nvSpPr>
        <p:spPr>
          <a:xfrm>
            <a:off x="6508800" y="2895480"/>
            <a:ext cx="2539800" cy="115416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predicate function to get all parameter which match the name pattern “log_level” and they are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9" name="Straight Arrow Connector 16"/>
          <p:cNvCxnSpPr>
            <a:stCxn id="2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Straight Arrow Connector 17"/>
          <p:cNvCxnSpPr>
            <a:stCxn id="2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1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Folded Corner 43"/>
          <p:cNvSpPr/>
          <p:nvPr/>
        </p:nvSpPr>
        <p:spPr>
          <a:xfrm>
            <a:off x="5257800" y="2289240"/>
            <a:ext cx="3276720" cy="326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set_cci_value(target_value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Speech Bubble: Rectangle with Corners Rounded 12"/>
          <p:cNvSpPr/>
          <p:nvPr/>
        </p:nvSpPr>
        <p:spPr>
          <a:xfrm>
            <a:off x="6599160" y="3052800"/>
            <a:ext cx="2324160" cy="692280"/>
          </a:xfrm>
          <a:prstGeom prst="wedgeRoundRectCallout">
            <a:avLst>
              <a:gd name="adj1" fmla="val -37013"/>
              <a:gd name="adj2" fmla="val -10431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update parameter value to target_value(500)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Folded Corner 43"/>
          <p:cNvSpPr/>
          <p:nvPr/>
        </p:nvSpPr>
        <p:spPr>
          <a:xfrm>
            <a:off x="5257800" y="4002120"/>
            <a:ext cx="3276720" cy="434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nam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cci_valu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Speech Bubble: Rectangle with Corners Rounded 14"/>
          <p:cNvSpPr/>
          <p:nvPr/>
        </p:nvSpPr>
        <p:spPr>
          <a:xfrm>
            <a:off x="6599160" y="4905360"/>
            <a:ext cx="2324160" cy="917640"/>
          </a:xfrm>
          <a:prstGeom prst="wedgeRoundRectCallout">
            <a:avLst>
              <a:gd name="adj1" fmla="val -37013"/>
              <a:gd name="adj2" fmla="val -9511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print parameter value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3_Hierarchical_Value_Updat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0880" y="1514160"/>
            <a:ext cx="86868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parameters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Update all 'log_Level' parameters' value to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6:03:05Z</dcterms:modified>
  <cp:revision>85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6:03:05Z</vt:lpwstr>
  </property>
  <property fmtid="{D5CDD505-2E9C-101B-9397-08002B2CF9AE}" pid="5" name="TitusGUID">
    <vt:lpwstr>522d689a-30a7-4b0c-9d2d-5977e3992383</vt:lpwstr>
  </property>
</Properties>
</file>