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ECC1-B105-4BF2-9965-6FAB19758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D0FF-AF88-4CE7-9B9E-80BC45017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225B-4985-4FB1-9AE1-BD54F1D08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DFFD-9D42-4E57-9493-AF66FD914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B8BB-509A-462E-BA46-EF7E91F90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0F67-F46F-4310-999F-2FFD7F99B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68C4-E192-47AB-9F47-657577698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FD09F-F9D6-4640-A543-0FC922BBC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1DE2-77E7-4B2E-8ADC-FFF29E38E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F32C5-B045-49F9-B5E8-F2DEB8BA1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D7BEC-04D7-4B06-B995-7CEFA5A4F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2185F-68A2-4ACA-B368-E9FDA9842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4A721-6A89-4BCC-A2F9-F43E112CD2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C9CF-DC0D-4562-A325-F609DCD7F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3A6EF-7A4B-4A77-A4BD-77A2A1B63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FE6C-8684-4750-8B14-477EF9961F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E9DAE-9BD9-46B9-B6B7-3C341FAF0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C255-4BC1-44A9-BE35-3D35BD708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BD7C-A52C-4646-98F4-802634196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Value Change callback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eshadri Chakravart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rameter Value Change callba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requesting and responding to value change notif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odule creates couple of parameters and sets callbacks on both of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1, the user module would allow value change without any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2, the user module would reject value change uncondition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Picture 4" descr="cci_ex8.jpeg"/>
          <p:cNvPicPr/>
          <p:nvPr/>
        </p:nvPicPr>
        <p:blipFill>
          <a:blip r:embed="rId1"/>
          <a:stretch/>
        </p:blipFill>
        <p:spPr>
          <a:xfrm>
            <a:off x="138240" y="700200"/>
            <a:ext cx="8867520" cy="54576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7"/>
          <p:cNvSpPr/>
          <p:nvPr/>
        </p:nvSpPr>
        <p:spPr>
          <a:xfrm>
            <a:off x="2093760" y="5370480"/>
            <a:ext cx="6921720" cy="689040"/>
          </a:xfrm>
          <a:prstGeom prst="leftArrowCallout">
            <a:avLst>
              <a:gd name="adj1" fmla="val 14751"/>
              <a:gd name="adj2" fmla="val 25000"/>
              <a:gd name="adj3" fmla="val 123243"/>
              <a:gd name="adj4" fmla="val 365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Observe that since write is rejec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for param_2 reject_write callback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no other callbacks are trigger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br>
              <a:rPr sz="32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08_Parameter_Value_Change_Callbacks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1 is 1 (Default value Specified: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2 is 2 (Default value Specified: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1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ost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Current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2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reject_pre_write_callback: Rejecting Value change on sim_ip.param_2 (2 -&gt; 2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0 s, Caught exception: Error: /Accellera/CCI/SET_PARAM_FAILED: Value rejected by callback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cfg_ip: @0 s, config_ip::end_of_elaboration: [EXTERNAL] Current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1 (10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5T20:36:41Z</dcterms:modified>
  <cp:revision>149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36:41Z</vt:lpwstr>
  </property>
  <property fmtid="{D5CDD505-2E9C-101B-9397-08002B2CF9AE}" pid="5" name="TitusGUID">
    <vt:lpwstr>e91f1e81-ec8b-4b29-aa9d-61454af1454c</vt:lpwstr>
  </property>
</Properties>
</file>