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7DEB-92C5-4FB4-86DD-93DA89E12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306E-923D-47B6-BC80-86629037B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3F66-7BBA-463D-921B-AB6254D9B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87A0-7539-4DDE-90B2-C31DC21C7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AFB46-707E-43ED-ABD1-984D0CBEA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57DF-5FAB-493B-BCA6-18DAFC4A1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EDDE-07A9-4136-BA9F-3B3C721FE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AD2D-21F6-4A23-B9EF-9A814D125C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99B7-0786-4625-A4D4-5F5AF8532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D0F2-9118-402C-8AD7-027CE972F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B2BD-A711-43A5-99FB-3B6E67C62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7223-67AD-4349-8CC7-B8059A283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8894-CF0F-4482-9FC4-BAFF634F2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6660-429F-4CA1-A3E8-0B8D0F8FD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E868-F80B-4CE5-9BCA-1A48AF04F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0B70-ADA6-4CCE-B6BB-DFA9BDF83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0.9.0_pub_rev_20171217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…/rapidjson-1.1.0.tar.gz -C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rmdir rapidjson; ln –s rapidjson-1.1.0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See cci-0.9.0_pub_rev_20171217/README.txt for instructions to download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environment variables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vobs/ti_systemc/tools/boost/boost_1_44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0.9.0_pub_rev_201712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You can find a half-done script at cci_test/scripts/source.bas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packages/gs_bro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scripts/README_CCI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(required due to long path nam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0.9.0_pub_rev_20171217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d.. 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_code\cci_test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2-19T20:41:36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9 20:41:36Z</vt:lpwstr>
  </property>
  <property fmtid="{D5CDD505-2E9C-101B-9397-08002B2CF9AE}" pid="5" name="TitusGUID">
    <vt:lpwstr>e3de821b-1c25-48f5-972a-c3014a611f88</vt:lpwstr>
  </property>
</Properties>
</file>